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  <p:sldId id="296" r:id="rId53"/>
    <p:sldId id="297" r:id="rId54"/>
    <p:sldId id="298" r:id="rId55"/>
    <p:sldId id="299" r:id="rId56"/>
    <p:sldId id="300" r:id="rId57"/>
    <p:sldId id="301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slide" Target="slides/slide41.xml"/><Relationship Id="rId54" Type="http://schemas.openxmlformats.org/officeDocument/2006/relationships/slide" Target="slides/slide42.xml"/><Relationship Id="rId55" Type="http://schemas.openxmlformats.org/officeDocument/2006/relationships/slide" Target="slides/slide43.xml"/><Relationship Id="rId56" Type="http://schemas.openxmlformats.org/officeDocument/2006/relationships/slide" Target="slides/slide44.xml"/><Relationship Id="rId57" Type="http://schemas.openxmlformats.org/officeDocument/2006/relationships/slide" Target="slides/slide45.xml"/><Relationship Id="rId58" Type="http://schemas.openxmlformats.org/officeDocument/2006/relationships/slide" Target="slides/slide46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dt" idx="2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ad47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 type="ftr" idx="2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 type="sldNum" idx="2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54AB0-BE47-459D-B448-AFA3A31A7453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Jest to przykładowy slajd do wzorca: Slajd Tytułowy_0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Jak przygotować zdjęci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kleić wybrane zdjęc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Zmniejszyć lub zwiększyć według uznan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zakładce „Formatowanie” wybrać opcję „Zaokrąglony prostokąt, z odbiciem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„Efekty obrazów” wybrać opcję „Bez odbicia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„Obramowanie obrazu” wybrać obramowanie białe, o grubości 2,25pk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2A1B7-4DB2-431B-86C3-0A99CF07AF00}" type="slidenum">
              <a:rPr b="0" lang="pl-PL" sz="1200" spc="-1" strike="noStrike">
                <a:solidFill>
                  <a:srgbClr val="0089b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89ba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Jest to przykładowy slajd do wzorca: Tytuł i zawartość_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06F64-73A0-4400-A7DC-9A066645AF8E}" type="slidenum">
              <a:rPr b="0" lang="pl-PL" sz="1200" spc="-1" strike="noStrike">
                <a:solidFill>
                  <a:srgbClr val="0089b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89ba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Jest to przykładowy slajd do wzorca: Tytuł i zawartość_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48ACE-3E66-4617-A7F6-3D65FC3B44A1}" type="slidenum">
              <a:rPr b="0" lang="pl-PL" sz="1200" spc="-1" strike="noStrike">
                <a:solidFill>
                  <a:srgbClr val="0089b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89ba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Jest to przykładowy slajd do wzorca: Tytuł i zawartość_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462EF-F768-41CA-9333-C7C4E710DE1C}" type="slidenum">
              <a:rPr b="0" lang="pl-PL" sz="1200" spc="-1" strike="noStrike">
                <a:solidFill>
                  <a:srgbClr val="0089b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89ba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Jest to przykładowy slajd do wzorca: Tytuł i zawartość_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8566C-0FCB-4557-B231-C121692860BE}" type="slidenum">
              <a:rPr b="0" lang="pl-PL" sz="1200" spc="-1" strike="noStrike">
                <a:solidFill>
                  <a:srgbClr val="0089b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89ba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Jest to przykładowy slajd do wzorca: Tytuł i zawartość_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B360A-14A1-4DA6-9009-27DB6DE91C04}" type="slidenum">
              <a:rPr b="0" lang="pl-PL" sz="1200" spc="-1" strike="noStrike">
                <a:solidFill>
                  <a:srgbClr val="0089b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89ba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Jest to przykładowy slajd do wzorca: Tytuł i zawartość_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8A4B8-78D7-4CAA-A293-F51C34288939}" type="slidenum">
              <a:rPr b="0" lang="pl-PL" sz="1200" spc="-1" strike="noStrike">
                <a:solidFill>
                  <a:srgbClr val="0089b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89ba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Jest to przykładowy slajd do wzorca: Tytuł i zawartość_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FEBBD-38EA-4586-97D7-D4E6E2982014}" type="slidenum">
              <a:rPr b="0" lang="pl-PL" sz="1200" spc="-1" strike="noStrike">
                <a:solidFill>
                  <a:srgbClr val="0089b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89ba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Jest to przykładowy slajd do wzorca: Tytuł i zawartość_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4EC75-2F7F-4392-936E-20BD0A279BD4}" type="slidenum">
              <a:rPr b="0" lang="pl-PL" sz="1200" spc="-1" strike="noStrike">
                <a:solidFill>
                  <a:srgbClr val="0089b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89ba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Jest to przykładowy slajd do wzorca: Tytuł i zawartość_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59652-A3E0-4FE0-9A63-62652544C85A}" type="slidenum">
              <a:rPr b="0" lang="pl-PL" sz="1200" spc="-1" strike="noStrike">
                <a:solidFill>
                  <a:srgbClr val="0089b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89ba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Jest to przykładowy slajd do wzorca: Tytuł i zawartość_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D17C8-D158-4155-8FFC-E6A273980B17}" type="slidenum">
              <a:rPr b="0" lang="pl-PL" sz="1200" spc="-1" strike="noStrike">
                <a:solidFill>
                  <a:srgbClr val="0089b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89ba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Jest to przykładowy slajd do wzorca: Wypunktowanie Numerycz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1F602-6C31-4C46-96BB-222BE490D82B}" type="slidenum">
              <a:rPr b="0" lang="pl-PL" sz="1200" spc="-1" strike="noStrike">
                <a:solidFill>
                  <a:srgbClr val="0089b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89ba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Jest to przykładowy slajd do wzorca: Tytuł i zawartość_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3962C-A80C-4A36-B46C-A595653CB888}" type="slidenum">
              <a:rPr b="0" lang="pl-PL" sz="1200" spc="-1" strike="noStrike">
                <a:solidFill>
                  <a:srgbClr val="0089b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89ba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Jest to przykładowy slajd do wzorca: Tytuł i zawartość_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0881C-A1A1-49C1-B3B0-946C11553862}" type="slidenum">
              <a:rPr b="0" lang="pl-PL" sz="1200" spc="-1" strike="noStrike">
                <a:solidFill>
                  <a:srgbClr val="0089b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89ba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Jest to przykładowy slajd do wzorca: Tytuł i zawartość_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979DB-102D-4760-ACCF-801ADAEBE510}" type="slidenum">
              <a:rPr b="0" lang="pl-PL" sz="1200" spc="-1" strike="noStrike">
                <a:solidFill>
                  <a:srgbClr val="0089b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89ba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Jest to przykładowy slajd do wzorca: Tytuł i zawartość_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F1B88-7BF5-4FBE-BB58-770DF53497AA}" type="slidenum">
              <a:rPr b="0" lang="pl-PL" sz="1200" spc="-1" strike="noStrike">
                <a:solidFill>
                  <a:srgbClr val="0089b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89ba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Jest to przykładowy slajd do wzorca: Tytuł i zawartość_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B9F8E-E385-4148-BB51-4D611A24440E}" type="slidenum">
              <a:rPr b="0" lang="pl-PL" sz="1200" spc="-1" strike="noStrike">
                <a:solidFill>
                  <a:srgbClr val="0089b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89ba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Jest to przykładowy slajd do wzorca: Tytuł i zawartość_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15DAB-31A8-45BF-8AC9-DC1ED24A2E14}" type="slidenum">
              <a:rPr b="0" lang="pl-PL" sz="1200" spc="-1" strike="noStrike">
                <a:solidFill>
                  <a:srgbClr val="0089b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89ba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Jest to przykładowy slajd do wzorca: Tytuł i zawartość_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4241B-78EA-4A9D-9121-92B06C413EDA}" type="slidenum">
              <a:rPr b="0" lang="pl-PL" sz="1200" spc="-1" strike="noStrike">
                <a:solidFill>
                  <a:srgbClr val="0089b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89ba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Jest to przykładowy slajd do wzorca: Tytuł i zawartość_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CC918-A0E5-4E3D-8746-ACD39D27FF4B}" type="slidenum">
              <a:rPr b="0" lang="pl-PL" sz="1200" spc="-1" strike="noStrike">
                <a:solidFill>
                  <a:srgbClr val="0089b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89ba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Jest to przykładowy slajd do wzorca: Tytuł i zawartość_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84B9B-8066-43D7-91FA-B7C3C31C0501}" type="slidenum">
              <a:rPr b="0" lang="pl-PL" sz="1200" spc="-1" strike="noStrike">
                <a:solidFill>
                  <a:srgbClr val="0089b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89ba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Jest to przykładowy slajd do wzorca: Tytuł i zawartość_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1A57B-1501-4639-8522-92019017E117}" type="slidenum">
              <a:rPr b="0" lang="pl-PL" sz="1200" spc="-1" strike="noStrike">
                <a:solidFill>
                  <a:srgbClr val="0089b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89ba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Jest to przykładowy slajd do wzorca: Wypunktowanie Numerycz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CAF23-279E-451E-831B-11C681A10F92}" type="slidenum">
              <a:rPr b="0" lang="pl-PL" sz="1200" spc="-1" strike="noStrike">
                <a:solidFill>
                  <a:srgbClr val="0089b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89ba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Jest to przykładowy slajd do wzorca: Tytuł i zawartość_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1AE61-5C65-497C-B5A7-9C2306506274}" type="slidenum">
              <a:rPr b="0" lang="pl-PL" sz="1200" spc="-1" strike="noStrike">
                <a:solidFill>
                  <a:srgbClr val="0089b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89ba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Jest to przykładowy slajd do wzorca: Tytuł i zawartość_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CCC4C-3A00-46B5-83B4-9841198EF18D}" type="slidenum">
              <a:rPr b="0" lang="pl-PL" sz="1200" spc="-1" strike="noStrike">
                <a:solidFill>
                  <a:srgbClr val="0089b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89ba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Jest to przykładowy slajd do wzorca: Tytuł i zawartość_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C59F5-04C9-4127-BD6E-5F5EA1BD178F}" type="slidenum">
              <a:rPr b="0" lang="pl-PL" sz="1200" spc="-1" strike="noStrike">
                <a:solidFill>
                  <a:srgbClr val="0089b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89ba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Jest to przykładowy slajd do wzorca: Tytuł i zawartość_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AEAC9-0849-461A-B7E9-27CDCAEFA5EC}" type="slidenum">
              <a:rPr b="0" lang="pl-PL" sz="1200" spc="-1" strike="noStrike">
                <a:solidFill>
                  <a:srgbClr val="0089b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89ba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Jest to przykładowy slajd do wzorca: Tytuł i zawartość_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11994-F1F4-4C53-890F-C1E6E1E14736}" type="slidenum">
              <a:rPr b="0" lang="pl-PL" sz="1200" spc="-1" strike="noStrike">
                <a:solidFill>
                  <a:srgbClr val="0089b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89ba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Jest to przykładowy slajd do wzorca: Tytuł i zawartość_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9E89F-FC9D-4DD6-8604-9CA7B4F0E199}" type="slidenum">
              <a:rPr b="0" lang="pl-PL" sz="1200" spc="-1" strike="noStrike">
                <a:solidFill>
                  <a:srgbClr val="0089b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89ba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Jest to przykładowy slajd do wzorca: Tytuł i zawartość_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8B836-129A-4E9A-BBD2-D29D5347B888}" type="slidenum">
              <a:rPr b="0" lang="pl-PL" sz="1200" spc="-1" strike="noStrike">
                <a:solidFill>
                  <a:srgbClr val="0089b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89ba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Jest to przykładowy slajd do wzorca: Tytuł i zawartość_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9C9CE-DD79-4F08-B318-35CF060930FB}" type="slidenum">
              <a:rPr b="0" lang="pl-PL" sz="1200" spc="-1" strike="noStrike">
                <a:solidFill>
                  <a:srgbClr val="0089b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89ba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Jest to przykładowy slajd do wzorca: Tytuł i zawartość_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637C4-ACA2-43A1-AEF3-86A451554F86}" type="slidenum">
              <a:rPr b="0" lang="pl-PL" sz="1200" spc="-1" strike="noStrike">
                <a:solidFill>
                  <a:srgbClr val="0089b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89ba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Jest to przykładowy slajd do wzorca: Tytuł i zawartość_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13DFB-937E-4ED1-B6E3-2AE930CB5581}" type="slidenum">
              <a:rPr b="0" lang="pl-PL" sz="1200" spc="-1" strike="noStrike">
                <a:solidFill>
                  <a:srgbClr val="0089b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89ba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Jest to przykładowy slajd do wzorca: Wypunktowanie Numerycz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19208-894A-487F-B814-7F2B12F8C9FE}" type="slidenum">
              <a:rPr b="0" lang="pl-PL" sz="1200" spc="-1" strike="noStrike">
                <a:solidFill>
                  <a:srgbClr val="0089b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89ba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Jest to przykładowy slajd do wzorca: Tytuł i zawartość_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10BC1-AF4A-49FE-909F-7D5AB2D6E3ED}" type="slidenum">
              <a:rPr b="0" lang="pl-PL" sz="1200" spc="-1" strike="noStrike">
                <a:solidFill>
                  <a:srgbClr val="0089b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89ba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Jest to przykładowy slajd do wzorca: Tytuł i zawartość_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505DA-2095-4CD6-BAF9-FCF4427D64A5}" type="slidenum">
              <a:rPr b="0" lang="pl-PL" sz="1200" spc="-1" strike="noStrike">
                <a:solidFill>
                  <a:srgbClr val="0089b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89ba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Jest to przykładowy slajd do wzorca: Tytuł i zawartość_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D9718-6DAE-45EF-957E-303662A96A03}" type="slidenum">
              <a:rPr b="0" lang="pl-PL" sz="1200" spc="-1" strike="noStrike">
                <a:solidFill>
                  <a:srgbClr val="0089b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89ba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Jest to przykładowy slajd do wzorca: Tytuł i zawartość_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E03F0-1EFB-4E25-8059-09C336FD6010}" type="slidenum">
              <a:rPr b="0" lang="pl-PL" sz="1200" spc="-1" strike="noStrike">
                <a:solidFill>
                  <a:srgbClr val="0089b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89ba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Jest to przykładowy slajd do wzorca: Tytuł i zawartość_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7F552-BEC8-42D3-8181-2BDDC2BD5515}" type="slidenum">
              <a:rPr b="0" lang="pl-PL" sz="1200" spc="-1" strike="noStrike">
                <a:solidFill>
                  <a:srgbClr val="0089b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89ba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Jest to przykładowy slajd do wzorca: Tytuł i zawartość_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23692-F03A-4A2D-BBE9-227EA1840926}" type="slidenum">
              <a:rPr b="0" lang="pl-PL" sz="1200" spc="-1" strike="noStrike">
                <a:solidFill>
                  <a:srgbClr val="0089b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89ba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Jest to przykładowy slajd do wzorca: Zakończenie Działu_0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Jak przygotować zdjęci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kleić wybrane zdjęc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Zmniejszyć lub zwiększyć według uznan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zakładce „Formatowanie” wybrać opcję „Zaokrąglony prostokąt, z odbiciem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„Efekty obrazów” wybrać opcję „Bez odbicia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„Obramowanie obrazu” wybrać obramowanie białe, o grubości 2,25pk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CE985-85EE-4E4C-9C5F-A1B9F6625988}" type="slidenum">
              <a:rPr b="0" lang="pl-PL" sz="1200" spc="-1" strike="noStrike">
                <a:solidFill>
                  <a:srgbClr val="0089b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89ba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Jest to przykładowy slajd do wzorca: Tytuł i zawartość_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8669B-DA2A-4F18-964C-103A60E537E6}" type="slidenum">
              <a:rPr b="0" lang="pl-PL" sz="1200" spc="-1" strike="noStrike">
                <a:solidFill>
                  <a:srgbClr val="0089b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89ba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Jest to przykładowy slajd do wzorca: Tytuł i zawartość_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F7E30-7BCC-454C-B4B1-26166325FBA6}" type="slidenum">
              <a:rPr b="0" lang="pl-PL" sz="1200" spc="-1" strike="noStrike">
                <a:solidFill>
                  <a:srgbClr val="0089b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89ba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Jest to przykładowy slajd do wzorca: Tytuł i zawartość_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CE522-65B8-4F6B-A077-F9DDAC424F18}" type="slidenum">
              <a:rPr b="0" lang="pl-PL" sz="1200" spc="-1" strike="noStrike">
                <a:solidFill>
                  <a:srgbClr val="0089b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89ba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Jest to przykładowy slajd do wzorca: Tytuł i zawartość_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C78FB-2650-487C-BF8C-93C59E86B692}" type="slidenum">
              <a:rPr b="0" lang="pl-PL" sz="1200" spc="-1" strike="noStrike">
                <a:solidFill>
                  <a:srgbClr val="0089b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89ba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Jest to przykładowy slajd do wzorca: Tytuł i zawartość_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66F1A-D5B9-4ECD-936A-CC79D5F823E0}" type="slidenum">
              <a:rPr b="0" lang="pl-PL" sz="1200" spc="-1" strike="noStrike">
                <a:solidFill>
                  <a:srgbClr val="0089b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89ba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7CF43-94EC-44F5-89E1-74813939E0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987640" y="475560"/>
            <a:ext cx="557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A3CC9-AC53-496F-A65B-64932542911B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987640" y="475560"/>
            <a:ext cx="557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987640" y="475560"/>
            <a:ext cx="557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9ad47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2987640" y="476280"/>
            <a:ext cx="5570640" cy="240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987640" y="475560"/>
            <a:ext cx="557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987640" y="475560"/>
            <a:ext cx="557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987640" y="475560"/>
            <a:ext cx="557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987640" y="475560"/>
            <a:ext cx="557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987640" y="475560"/>
            <a:ext cx="557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987640" y="475560"/>
            <a:ext cx="557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CAE1C41-4D44-4CF9-8ADD-8A15031FC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987640" y="475560"/>
            <a:ext cx="557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6FCA9-0A05-42A8-936E-8516B3F7FD8E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987640" y="475560"/>
            <a:ext cx="557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E1C5BBA-F845-48D3-AF9B-DC137CD64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987640" y="475560"/>
            <a:ext cx="557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7B952C8-5CA9-468F-BD74-34AD7A310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987640" y="475560"/>
            <a:ext cx="557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EBC4F0D-EAD7-460F-9B36-78DC608E7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987640" y="475560"/>
            <a:ext cx="557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7290FC0-5368-4BFF-AC25-0FB1567E3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2987640" y="476280"/>
            <a:ext cx="5570640" cy="240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08E84B8-6C60-417A-BA41-1228E8BEF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987640" y="475560"/>
            <a:ext cx="557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0906A78-BE42-4317-AF27-E7D0A4A4D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2987640" y="475560"/>
            <a:ext cx="557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2E100A0-4AF9-4249-BE27-60C8300DD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987640" y="475560"/>
            <a:ext cx="557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846D281-E2E0-4377-86AA-95A533448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987640" y="475560"/>
            <a:ext cx="557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92892E8-A044-439B-AB4D-A3EC0F2D3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987640" y="475560"/>
            <a:ext cx="557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0D3F1D5-855C-447F-9801-7B437386B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987640" y="475560"/>
            <a:ext cx="557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CCCBD-06BD-44A3-9600-C32F8C9C8ADE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987640" y="475560"/>
            <a:ext cx="557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DB5A10D-1D9E-4FE2-9196-588C3949C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987640" y="475560"/>
            <a:ext cx="557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987640" y="475560"/>
            <a:ext cx="557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87640" y="475560"/>
            <a:ext cx="557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987640" y="475560"/>
            <a:ext cx="557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9ad4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987640" y="476280"/>
            <a:ext cx="5570640" cy="240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987640" y="475560"/>
            <a:ext cx="557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987640" y="475560"/>
            <a:ext cx="557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7A4F7-E87A-4C4B-A4F2-EC343532BB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987640" y="475560"/>
            <a:ext cx="557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87640" y="475560"/>
            <a:ext cx="557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987640" y="475560"/>
            <a:ext cx="557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987640" y="475560"/>
            <a:ext cx="557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987640" y="475560"/>
            <a:ext cx="557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6E61D0-BD14-4B61-9F2A-32361E337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987640" y="475560"/>
            <a:ext cx="557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773CEC-0EC3-43EB-AB09-CCE46BDF0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987640" y="475560"/>
            <a:ext cx="557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5EFD2B-5296-430B-BA01-A8C15AE58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987640" y="475560"/>
            <a:ext cx="557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A923AC-1115-4B5B-8696-9FBDD848D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987640" y="475560"/>
            <a:ext cx="557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047032-D686-47C0-B3D7-04906AC3C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987640" y="475560"/>
            <a:ext cx="557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0F9ED-1555-4C8D-A99D-DFAC1947655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987640" y="476280"/>
            <a:ext cx="5570640" cy="240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3E728B-F0CF-4982-9177-098FBD076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987640" y="475560"/>
            <a:ext cx="557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15F657-CAF7-4388-86CF-CB74DF8A3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987640" y="475560"/>
            <a:ext cx="557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143DC4-EE54-47B0-A8E5-051F62B06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87640" y="475560"/>
            <a:ext cx="557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6AC820-8821-43F5-9E47-AA03D7180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987640" y="475560"/>
            <a:ext cx="557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2466EC-EE3C-4B4D-8B30-115828219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987640" y="475560"/>
            <a:ext cx="557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6B6A6D-CDF6-4E90-8070-4D56FC330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987640" y="475560"/>
            <a:ext cx="557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1302E5-F62B-4048-BC18-28D584F88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BCF009-76E2-496E-8703-BDAB718B5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987640" y="475560"/>
            <a:ext cx="557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8F73CC-BA96-42D4-9A51-2EDED06C6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987640" y="475560"/>
            <a:ext cx="557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2F6444-191C-4E9C-BB16-61043D05D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987640" y="475560"/>
            <a:ext cx="557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26AD1-711F-4063-9B82-C79CDEB3903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987640" y="475560"/>
            <a:ext cx="557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E99CCF-0D2E-4F2F-9110-A72D2218B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987640" y="475560"/>
            <a:ext cx="557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C6317D-71E7-4E87-B267-9380298D9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2987640" y="476280"/>
            <a:ext cx="5570640" cy="240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6EEC9A-696F-4D4A-BDDE-5DE90FAE1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987640" y="475560"/>
            <a:ext cx="557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258D5E-23F8-47FC-A229-AA4849F54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987640" y="475560"/>
            <a:ext cx="557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0B38AE-1F49-4F65-91F5-5A9A19F09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987640" y="475560"/>
            <a:ext cx="557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E925A0-70E1-4CE3-AE6A-0428A4A69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987640" y="475560"/>
            <a:ext cx="557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43E9DD-3EEB-4208-AA37-AC40A9F73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987640" y="475560"/>
            <a:ext cx="557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DE6838-4D24-4D2C-9F75-EA525628E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987640" y="475560"/>
            <a:ext cx="557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1DA372-406E-4E10-A37D-7F68DD81F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075073-30A1-428F-99C2-524C35EE4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987640" y="475560"/>
            <a:ext cx="557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5204D-A03C-41B0-A43E-96D2843A920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987640" y="475560"/>
            <a:ext cx="557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EF8736-C87B-4B4F-9D0D-F500B7C70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987640" y="475560"/>
            <a:ext cx="557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E5237A-1672-4832-BC87-A377AD379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987640" y="475560"/>
            <a:ext cx="557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5E9F1E-7E17-479F-B1D5-5FAA725CD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987640" y="475560"/>
            <a:ext cx="557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4EFD0A-EA60-4485-A4ED-4B76C160F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2987640" y="476280"/>
            <a:ext cx="5570640" cy="240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47AA0D-F9A5-42E4-88E3-62929B484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987640" y="475560"/>
            <a:ext cx="557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4A92A5-8752-4D29-9044-9FD0D8BF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987640" y="475560"/>
            <a:ext cx="557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6A0C08-E14E-4555-9593-3F5222E52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987640" y="475560"/>
            <a:ext cx="557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8A6731-FC5C-49BA-8673-FD0280C52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987640" y="475560"/>
            <a:ext cx="557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5040BB-29E1-41B0-B4C7-694186911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987640" y="475560"/>
            <a:ext cx="557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78790C-9A31-46F9-8D83-050EFE12D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987640" y="476280"/>
            <a:ext cx="5570640" cy="240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247B6-8DFC-49C0-BAC3-45E6101673F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987640" y="475560"/>
            <a:ext cx="557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334113-2773-46B8-94F9-3BE813142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18B78D4-2924-4C53-BA80-86F3F2702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87640" y="475560"/>
            <a:ext cx="557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E25F092-F76F-4E9A-849C-FBF6196A9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987640" y="475560"/>
            <a:ext cx="557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7647647-AD26-435D-94DC-A3A6AAB17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987640" y="475560"/>
            <a:ext cx="557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F5EF7E0-A9F3-4B07-A3A9-E09C863CE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987640" y="475560"/>
            <a:ext cx="557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5336656-1FB7-4286-AC05-520ACB0C1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2987640" y="476280"/>
            <a:ext cx="5570640" cy="240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76C8CF7-C47E-498A-AECB-0C0D45AB6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987640" y="475560"/>
            <a:ext cx="557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66964A7-8EEE-4B9F-9544-4B2CE6CCC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987640" y="475560"/>
            <a:ext cx="557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B7E40B8-C54A-41B5-84A0-20A835BF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987640" y="475560"/>
            <a:ext cx="557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3C68515-AF05-41E2-AF0D-13D65D59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987640" y="475560"/>
            <a:ext cx="557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53DA6-8C45-4D0B-B65C-1643F3B13FE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987640" y="475560"/>
            <a:ext cx="557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8416F60-BBD7-4578-AFF5-37E468364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7640" y="475560"/>
            <a:ext cx="557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14B8AA1-BA5A-48D9-A743-59DFE5930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987640" y="475560"/>
            <a:ext cx="557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65DCDC8-D11D-4687-BFCB-03C1E3094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701950A-4F52-4379-ADB9-3BC994826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987640" y="475560"/>
            <a:ext cx="557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13F44C6-D8AF-4B88-B904-D0AAF3CE8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7640" y="475560"/>
            <a:ext cx="557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219BB17-BFA9-4A2C-BEEE-D9117E949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987640" y="475560"/>
            <a:ext cx="557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8249046-61B4-4AA5-AB34-8674BD2D9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7640" y="475560"/>
            <a:ext cx="557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EBFF634-6AE3-44E1-8B0B-4EF85B400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2987640" y="476280"/>
            <a:ext cx="5570640" cy="240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8511F36-E606-48BE-8A8D-C5EFBE1BE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987640" y="475560"/>
            <a:ext cx="557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A5799E6-357A-462D-AB5B-D7A686028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987640" y="475560"/>
            <a:ext cx="557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0A512-84B3-49C7-A79A-159BF159FD5B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987640" y="475560"/>
            <a:ext cx="557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8AFEA2C-69ED-4E3E-B0C8-8DC6305A5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987640" y="475560"/>
            <a:ext cx="557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EF66AD4-42F3-4980-854D-87D8C0681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987640" y="475560"/>
            <a:ext cx="557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A471A6C-0E36-4143-A805-F5EBEAF38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987640" y="475560"/>
            <a:ext cx="557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76A5430-0193-4E5C-AD73-20AA5FD99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987640" y="475560"/>
            <a:ext cx="557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B9EDE17-86CF-487A-A228-ECFB95565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CC83C2C-700F-44E5-98F7-4BA872461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987640" y="475560"/>
            <a:ext cx="557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827C5CE-6268-4F61-BDCD-29C87600B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987640" y="475560"/>
            <a:ext cx="557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9D9B4EE-36AC-4819-A199-98B222981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987640" y="475560"/>
            <a:ext cx="557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217DEE3-6A42-49EE-9D21-3314D9850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987640" y="475560"/>
            <a:ext cx="557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88F1F0B-96A6-48AE-A94F-04263D73D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987640" y="475560"/>
            <a:ext cx="557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9CFD1-F7A1-476F-932C-C577B45A3CBF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2987640" y="476280"/>
            <a:ext cx="5570640" cy="240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4FDBD51-E0C7-4B66-910E-702605D8C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987640" y="475560"/>
            <a:ext cx="557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1073BFB-237F-4CB4-A8BD-66FC00E91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987640" y="475560"/>
            <a:ext cx="557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EC34A77-E58D-4BBD-A2A6-60852AB9A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987640" y="475560"/>
            <a:ext cx="557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5AF625D-FAC8-450F-A4D2-57F7ED0F7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987640" y="475560"/>
            <a:ext cx="557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631EAE9-8BC1-48B6-B25A-4F675A110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987640" y="475560"/>
            <a:ext cx="557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DE57C64-F6D3-4CEF-B12C-FB164A70A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987640" y="475560"/>
            <a:ext cx="557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F2D784A-68F1-40A8-9270-73A6A9165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987640" y="475560"/>
            <a:ext cx="557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987640" y="475560"/>
            <a:ext cx="557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09.xml"/><Relationship Id="rId12" Type="http://schemas.openxmlformats.org/officeDocument/2006/relationships/slideLayout" Target="../slideLayouts/slideLayout110.xml"/><Relationship Id="rId13" Type="http://schemas.openxmlformats.org/officeDocument/2006/relationships/slideLayout" Target="../slideLayouts/slideLayout111.xml"/><Relationship Id="rId14" Type="http://schemas.openxmlformats.org/officeDocument/2006/relationships/slideLayout" Target="../slideLayouts/slideLayout112.xml"/><Relationship Id="rId15" Type="http://schemas.openxmlformats.org/officeDocument/2006/relationships/slideLayout" Target="../slideLayouts/slideLayout113.xml"/><Relationship Id="rId16" Type="http://schemas.openxmlformats.org/officeDocument/2006/relationships/slideLayout" Target="../slideLayouts/slideLayout114.xml"/><Relationship Id="rId17" Type="http://schemas.openxmlformats.org/officeDocument/2006/relationships/slideLayout" Target="../slideLayouts/slideLayout115.xml"/><Relationship Id="rId18" Type="http://schemas.openxmlformats.org/officeDocument/2006/relationships/slideLayout" Target="../slideLayouts/slideLayout116.xml"/><Relationship Id="rId19" Type="http://schemas.openxmlformats.org/officeDocument/2006/relationships/slideLayout" Target="../slideLayouts/slideLayout117.xml"/><Relationship Id="rId20" Type="http://schemas.openxmlformats.org/officeDocument/2006/relationships/slideLayout" Target="../slideLayouts/slideLayout118.xml"/><Relationship Id="rId21" Type="http://schemas.openxmlformats.org/officeDocument/2006/relationships/slideLayout" Target="../slideLayouts/slideLayout119.xml"/><Relationship Id="rId22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3.xml"/><Relationship Id="rId13" Type="http://schemas.openxmlformats.org/officeDocument/2006/relationships/slideLayout" Target="../slideLayouts/slideLayout14.xml"/><Relationship Id="rId14" Type="http://schemas.openxmlformats.org/officeDocument/2006/relationships/slideLayout" Target="../slideLayouts/slideLayout15.xml"/><Relationship Id="rId15" Type="http://schemas.openxmlformats.org/officeDocument/2006/relationships/slideLayout" Target="../slideLayouts/slideLayout16.xml"/><Relationship Id="rId16" Type="http://schemas.openxmlformats.org/officeDocument/2006/relationships/slideLayout" Target="../slideLayouts/slideLayout17.xml"/><Relationship Id="rId17" Type="http://schemas.openxmlformats.org/officeDocument/2006/relationships/slideLayout" Target="../slideLayouts/slideLayout18.xml"/><Relationship Id="rId18" Type="http://schemas.openxmlformats.org/officeDocument/2006/relationships/slideLayout" Target="../slideLayouts/slideLayout19.xml"/><Relationship Id="rId19" Type="http://schemas.openxmlformats.org/officeDocument/2006/relationships/slideLayout" Target="../slideLayouts/slideLayout20.xml"/><Relationship Id="rId20" Type="http://schemas.openxmlformats.org/officeDocument/2006/relationships/slideLayout" Target="../slideLayouts/slideLayout21.xml"/><Relationship Id="rId21" Type="http://schemas.openxmlformats.org/officeDocument/2006/relationships/slideLayout" Target="../slideLayouts/slideLayout22.xml"/><Relationship Id="rId22" Type="http://schemas.openxmlformats.org/officeDocument/2006/relationships/slideLayout" Target="../slideLayouts/slideLayout23.xml"/><Relationship Id="rId2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25.xml"/><Relationship Id="rId12" Type="http://schemas.openxmlformats.org/officeDocument/2006/relationships/slideLayout" Target="../slideLayouts/slideLayout26.xml"/><Relationship Id="rId13" Type="http://schemas.openxmlformats.org/officeDocument/2006/relationships/slideLayout" Target="../slideLayouts/slideLayout27.xml"/><Relationship Id="rId14" Type="http://schemas.openxmlformats.org/officeDocument/2006/relationships/slideLayout" Target="../slideLayouts/slideLayout28.xml"/><Relationship Id="rId15" Type="http://schemas.openxmlformats.org/officeDocument/2006/relationships/slideLayout" Target="../slideLayouts/slideLayout29.xml"/><Relationship Id="rId16" Type="http://schemas.openxmlformats.org/officeDocument/2006/relationships/slideLayout" Target="../slideLayouts/slideLayout30.xml"/><Relationship Id="rId17" Type="http://schemas.openxmlformats.org/officeDocument/2006/relationships/slideLayout" Target="../slideLayouts/slideLayout31.xml"/><Relationship Id="rId18" Type="http://schemas.openxmlformats.org/officeDocument/2006/relationships/slideLayout" Target="../slideLayouts/slideLayout32.xml"/><Relationship Id="rId19" Type="http://schemas.openxmlformats.org/officeDocument/2006/relationships/slideLayout" Target="../slideLayouts/slideLayout33.xml"/><Relationship Id="rId20" Type="http://schemas.openxmlformats.org/officeDocument/2006/relationships/slideLayout" Target="../slideLayouts/slideLayout34.xml"/><Relationship Id="rId21" Type="http://schemas.openxmlformats.org/officeDocument/2006/relationships/slideLayout" Target="../slideLayouts/slideLayout35.xml"/><Relationship Id="rId22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37.xml"/><Relationship Id="rId12" Type="http://schemas.openxmlformats.org/officeDocument/2006/relationships/slideLayout" Target="../slideLayouts/slideLayout38.xml"/><Relationship Id="rId13" Type="http://schemas.openxmlformats.org/officeDocument/2006/relationships/slideLayout" Target="../slideLayouts/slideLayout39.xml"/><Relationship Id="rId14" Type="http://schemas.openxmlformats.org/officeDocument/2006/relationships/slideLayout" Target="../slideLayouts/slideLayout40.xml"/><Relationship Id="rId15" Type="http://schemas.openxmlformats.org/officeDocument/2006/relationships/slideLayout" Target="../slideLayouts/slideLayout41.xml"/><Relationship Id="rId16" Type="http://schemas.openxmlformats.org/officeDocument/2006/relationships/slideLayout" Target="../slideLayouts/slideLayout42.xml"/><Relationship Id="rId17" Type="http://schemas.openxmlformats.org/officeDocument/2006/relationships/slideLayout" Target="../slideLayouts/slideLayout43.xml"/><Relationship Id="rId18" Type="http://schemas.openxmlformats.org/officeDocument/2006/relationships/slideLayout" Target="../slideLayouts/slideLayout44.xml"/><Relationship Id="rId19" Type="http://schemas.openxmlformats.org/officeDocument/2006/relationships/slideLayout" Target="../slideLayouts/slideLayout45.xml"/><Relationship Id="rId20" Type="http://schemas.openxmlformats.org/officeDocument/2006/relationships/slideLayout" Target="../slideLayouts/slideLayout46.xml"/><Relationship Id="rId21" Type="http://schemas.openxmlformats.org/officeDocument/2006/relationships/slideLayout" Target="../slideLayouts/slideLayout47.xml"/><Relationship Id="rId22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49.xml"/><Relationship Id="rId12" Type="http://schemas.openxmlformats.org/officeDocument/2006/relationships/slideLayout" Target="../slideLayouts/slideLayout50.xml"/><Relationship Id="rId13" Type="http://schemas.openxmlformats.org/officeDocument/2006/relationships/slideLayout" Target="../slideLayouts/slideLayout51.xml"/><Relationship Id="rId14" Type="http://schemas.openxmlformats.org/officeDocument/2006/relationships/slideLayout" Target="../slideLayouts/slideLayout52.xml"/><Relationship Id="rId15" Type="http://schemas.openxmlformats.org/officeDocument/2006/relationships/slideLayout" Target="../slideLayouts/slideLayout53.xml"/><Relationship Id="rId16" Type="http://schemas.openxmlformats.org/officeDocument/2006/relationships/slideLayout" Target="../slideLayouts/slideLayout54.xml"/><Relationship Id="rId17" Type="http://schemas.openxmlformats.org/officeDocument/2006/relationships/slideLayout" Target="../slideLayouts/slideLayout55.xml"/><Relationship Id="rId18" Type="http://schemas.openxmlformats.org/officeDocument/2006/relationships/slideLayout" Target="../slideLayouts/slideLayout56.xml"/><Relationship Id="rId19" Type="http://schemas.openxmlformats.org/officeDocument/2006/relationships/slideLayout" Target="../slideLayouts/slideLayout57.xml"/><Relationship Id="rId20" Type="http://schemas.openxmlformats.org/officeDocument/2006/relationships/slideLayout" Target="../slideLayouts/slideLayout58.xml"/><Relationship Id="rId21" Type="http://schemas.openxmlformats.org/officeDocument/2006/relationships/slideLayout" Target="../slideLayouts/slideLayout59.xml"/><Relationship Id="rId22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61.xml"/><Relationship Id="rId12" Type="http://schemas.openxmlformats.org/officeDocument/2006/relationships/slideLayout" Target="../slideLayouts/slideLayout62.xml"/><Relationship Id="rId13" Type="http://schemas.openxmlformats.org/officeDocument/2006/relationships/slideLayout" Target="../slideLayouts/slideLayout63.xml"/><Relationship Id="rId14" Type="http://schemas.openxmlformats.org/officeDocument/2006/relationships/slideLayout" Target="../slideLayouts/slideLayout64.xml"/><Relationship Id="rId15" Type="http://schemas.openxmlformats.org/officeDocument/2006/relationships/slideLayout" Target="../slideLayouts/slideLayout65.xml"/><Relationship Id="rId16" Type="http://schemas.openxmlformats.org/officeDocument/2006/relationships/slideLayout" Target="../slideLayouts/slideLayout66.xml"/><Relationship Id="rId17" Type="http://schemas.openxmlformats.org/officeDocument/2006/relationships/slideLayout" Target="../slideLayouts/slideLayout67.xml"/><Relationship Id="rId18" Type="http://schemas.openxmlformats.org/officeDocument/2006/relationships/slideLayout" Target="../slideLayouts/slideLayout68.xml"/><Relationship Id="rId19" Type="http://schemas.openxmlformats.org/officeDocument/2006/relationships/slideLayout" Target="../slideLayouts/slideLayout69.xml"/><Relationship Id="rId20" Type="http://schemas.openxmlformats.org/officeDocument/2006/relationships/slideLayout" Target="../slideLayouts/slideLayout70.xml"/><Relationship Id="rId21" Type="http://schemas.openxmlformats.org/officeDocument/2006/relationships/slideLayout" Target="../slideLayouts/slideLayout71.xml"/><Relationship Id="rId22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73.xml"/><Relationship Id="rId12" Type="http://schemas.openxmlformats.org/officeDocument/2006/relationships/slideLayout" Target="../slideLayouts/slideLayout74.xml"/><Relationship Id="rId13" Type="http://schemas.openxmlformats.org/officeDocument/2006/relationships/slideLayout" Target="../slideLayouts/slideLayout75.xml"/><Relationship Id="rId14" Type="http://schemas.openxmlformats.org/officeDocument/2006/relationships/slideLayout" Target="../slideLayouts/slideLayout76.xml"/><Relationship Id="rId15" Type="http://schemas.openxmlformats.org/officeDocument/2006/relationships/slideLayout" Target="../slideLayouts/slideLayout77.xml"/><Relationship Id="rId16" Type="http://schemas.openxmlformats.org/officeDocument/2006/relationships/slideLayout" Target="../slideLayouts/slideLayout78.xml"/><Relationship Id="rId17" Type="http://schemas.openxmlformats.org/officeDocument/2006/relationships/slideLayout" Target="../slideLayouts/slideLayout79.xml"/><Relationship Id="rId18" Type="http://schemas.openxmlformats.org/officeDocument/2006/relationships/slideLayout" Target="../slideLayouts/slideLayout80.xml"/><Relationship Id="rId19" Type="http://schemas.openxmlformats.org/officeDocument/2006/relationships/slideLayout" Target="../slideLayouts/slideLayout81.xml"/><Relationship Id="rId20" Type="http://schemas.openxmlformats.org/officeDocument/2006/relationships/slideLayout" Target="../slideLayouts/slideLayout82.xml"/><Relationship Id="rId21" Type="http://schemas.openxmlformats.org/officeDocument/2006/relationships/slideLayout" Target="../slideLayouts/slideLayout83.xml"/><Relationship Id="rId22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85.xml"/><Relationship Id="rId12" Type="http://schemas.openxmlformats.org/officeDocument/2006/relationships/slideLayout" Target="../slideLayouts/slideLayout86.xml"/><Relationship Id="rId13" Type="http://schemas.openxmlformats.org/officeDocument/2006/relationships/slideLayout" Target="../slideLayouts/slideLayout87.xml"/><Relationship Id="rId14" Type="http://schemas.openxmlformats.org/officeDocument/2006/relationships/slideLayout" Target="../slideLayouts/slideLayout88.xml"/><Relationship Id="rId15" Type="http://schemas.openxmlformats.org/officeDocument/2006/relationships/slideLayout" Target="../slideLayouts/slideLayout89.xml"/><Relationship Id="rId16" Type="http://schemas.openxmlformats.org/officeDocument/2006/relationships/slideLayout" Target="../slideLayouts/slideLayout90.xml"/><Relationship Id="rId17" Type="http://schemas.openxmlformats.org/officeDocument/2006/relationships/slideLayout" Target="../slideLayouts/slideLayout91.xml"/><Relationship Id="rId18" Type="http://schemas.openxmlformats.org/officeDocument/2006/relationships/slideLayout" Target="../slideLayouts/slideLayout92.xml"/><Relationship Id="rId19" Type="http://schemas.openxmlformats.org/officeDocument/2006/relationships/slideLayout" Target="../slideLayouts/slideLayout93.xml"/><Relationship Id="rId20" Type="http://schemas.openxmlformats.org/officeDocument/2006/relationships/slideLayout" Target="../slideLayouts/slideLayout94.xml"/><Relationship Id="rId21" Type="http://schemas.openxmlformats.org/officeDocument/2006/relationships/slideLayout" Target="../slideLayouts/slideLayout95.xml"/><Relationship Id="rId22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97.xml"/><Relationship Id="rId11" Type="http://schemas.openxmlformats.org/officeDocument/2006/relationships/slideLayout" Target="../slideLayouts/slideLayout98.xml"/><Relationship Id="rId12" Type="http://schemas.openxmlformats.org/officeDocument/2006/relationships/slideLayout" Target="../slideLayouts/slideLayout99.xml"/><Relationship Id="rId13" Type="http://schemas.openxmlformats.org/officeDocument/2006/relationships/slideLayout" Target="../slideLayouts/slideLayout100.xml"/><Relationship Id="rId14" Type="http://schemas.openxmlformats.org/officeDocument/2006/relationships/slideLayout" Target="../slideLayouts/slideLayout101.xml"/><Relationship Id="rId15" Type="http://schemas.openxmlformats.org/officeDocument/2006/relationships/slideLayout" Target="../slideLayouts/slideLayout102.xml"/><Relationship Id="rId16" Type="http://schemas.openxmlformats.org/officeDocument/2006/relationships/slideLayout" Target="../slideLayouts/slideLayout103.xml"/><Relationship Id="rId17" Type="http://schemas.openxmlformats.org/officeDocument/2006/relationships/slideLayout" Target="../slideLayouts/slideLayout104.xml"/><Relationship Id="rId18" Type="http://schemas.openxmlformats.org/officeDocument/2006/relationships/slideLayout" Target="../slideLayouts/slideLayout105.xml"/><Relationship Id="rId19" Type="http://schemas.openxmlformats.org/officeDocument/2006/relationships/slideLayout" Target="../slideLayouts/slideLayout106.xml"/><Relationship Id="rId20" Type="http://schemas.openxmlformats.org/officeDocument/2006/relationships/slideLayout" Target="../slideLayouts/slideLayout107.xml"/><Relationship Id="rId21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987640" y="476280"/>
            <a:ext cx="55706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ad47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 lvl="1" marL="803160" indent="-345960"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 lvl="2" marL="1255680" indent="-341280"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 lvl="3" marL="1701720" indent="-314280">
              <a:spcBef>
                <a:spcPts val="55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 lvl="4" marL="2154240" indent="-325440">
              <a:spcBef>
                <a:spcPts val="55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 lvl="5" marL="2154240" indent="-325440">
              <a:spcBef>
                <a:spcPts val="55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 lvl="6" marL="2154240" indent="-325440">
              <a:spcBef>
                <a:spcPts val="55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317080" y="6462720"/>
            <a:ext cx="40464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ad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ad47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13" descr="bullet3"/>
          <p:cNvPicPr/>
          <p:nvPr/>
        </p:nvPicPr>
        <p:blipFill>
          <a:blip r:embed="rId2"/>
          <a:stretch/>
        </p:blipFill>
        <p:spPr>
          <a:xfrm>
            <a:off x="8244000" y="6210360"/>
            <a:ext cx="934920" cy="74772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5" descr="logo_clear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355680" y="260280"/>
            <a:ext cx="2200320" cy="1032120"/>
          </a:xfrm>
          <a:prstGeom prst="rect">
            <a:avLst/>
          </a:prstGeom>
          <a:ln w="0">
            <a:noFill/>
          </a:ln>
        </p:spPr>
      </p:pic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987640" y="476280"/>
            <a:ext cx="55706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ad47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 lvl="1" marL="803160" indent="-345960">
              <a:spcBef>
                <a:spcPts val="55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 lvl="2" marL="1255680" indent="-341280">
              <a:spcBef>
                <a:spcPts val="55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 lvl="3" marL="1701720" indent="-314280">
              <a:spcBef>
                <a:spcPts val="55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 lvl="4" marL="2154240" indent="-325440">
              <a:spcBef>
                <a:spcPts val="55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 lvl="5" marL="2154240" indent="-325440">
              <a:spcBef>
                <a:spcPts val="55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 lvl="6" marL="2154240" indent="-325440">
              <a:spcBef>
                <a:spcPts val="55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dt" idx="2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ftr" idx="2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 type="sldNum" idx="22"/>
          </p:nvPr>
        </p:nvSpPr>
        <p:spPr>
          <a:xfrm>
            <a:off x="8317080" y="6462720"/>
            <a:ext cx="40464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ad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6DC32-7B5A-4D3C-B994-D4E23805D5EB}" type="slidenum">
              <a:rPr b="0" lang="en-US" sz="1200" spc="-1" strike="noStrike">
                <a:solidFill>
                  <a:srgbClr val="89ad4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11"/>
    <p:sldLayoutId id="2147483767" r:id="rId12"/>
    <p:sldLayoutId id="2147483768" r:id="rId13"/>
    <p:sldLayoutId id="2147483769" r:id="rId14"/>
    <p:sldLayoutId id="2147483770" r:id="rId15"/>
    <p:sldLayoutId id="2147483771" r:id="rId16"/>
    <p:sldLayoutId id="2147483772" r:id="rId17"/>
    <p:sldLayoutId id="2147483773" r:id="rId18"/>
    <p:sldLayoutId id="2147483774" r:id="rId19"/>
    <p:sldLayoutId id="2147483775" r:id="rId20"/>
    <p:sldLayoutId id="2147483776" r:id="rId21"/>
    <p:sldLayoutId id="2147483777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4" descr="logo_clear"/>
          <p:cNvPicPr/>
          <p:nvPr/>
        </p:nvPicPr>
        <p:blipFill>
          <a:blip r:embed="rId2">
            <a:lum contrast="6000"/>
          </a:blip>
          <a:srcRect l="0" t="0" r="61116" b="0"/>
          <a:stretch/>
        </p:blipFill>
        <p:spPr>
          <a:xfrm>
            <a:off x="2387520" y="1125360"/>
            <a:ext cx="3632400" cy="4375440"/>
          </a:xfrm>
          <a:prstGeom prst="rect">
            <a:avLst/>
          </a:prstGeom>
          <a:ln w="0">
            <a:noFill/>
          </a:ln>
        </p:spPr>
      </p:pic>
      <p:sp>
        <p:nvSpPr>
          <p:cNvPr id="40" name="Freeform 6"/>
          <p:cNvSpPr/>
          <p:nvPr/>
        </p:nvSpPr>
        <p:spPr>
          <a:xfrm>
            <a:off x="3284640" y="2503440"/>
            <a:ext cx="1882800" cy="1495440"/>
          </a:xfrm>
          <a:prstGeom prst="pie">
            <a:avLst/>
          </a:prstGeom>
          <a:noFill/>
          <a:ln w="38160">
            <a:solidFill>
              <a:srgbClr val="89ad4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41" name="Freeform 7"/>
          <p:cNvSpPr/>
          <p:nvPr/>
        </p:nvSpPr>
        <p:spPr>
          <a:xfrm>
            <a:off x="3348000" y="3117960"/>
            <a:ext cx="2486160" cy="1390680"/>
          </a:xfrm>
          <a:prstGeom prst="pie">
            <a:avLst/>
          </a:prstGeom>
          <a:noFill/>
          <a:ln w="38160">
            <a:solidFill>
              <a:srgbClr val="0089b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9ba"/>
              </a:solidFill>
              <a:latin typeface="Arial"/>
            </a:endParaRPr>
          </a:p>
        </p:txBody>
      </p:sp>
      <p:pic>
        <p:nvPicPr>
          <p:cNvPr id="42" name="Picture 8" descr="logo_clear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355680" y="260280"/>
            <a:ext cx="2200320" cy="103212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9"/>
          <p:cNvSpPr/>
          <p:nvPr/>
        </p:nvSpPr>
        <p:spPr>
          <a:xfrm>
            <a:off x="0" y="1852560"/>
            <a:ext cx="9144000" cy="3816360"/>
          </a:xfrm>
          <a:prstGeom prst="rect">
            <a:avLst/>
          </a:prstGeom>
          <a:solidFill>
            <a:srgbClr val="0089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9ba"/>
              </a:solidFill>
              <a:latin typeface="Arial"/>
            </a:endParaRPr>
          </a:p>
        </p:txBody>
      </p:sp>
      <p:pic>
        <p:nvPicPr>
          <p:cNvPr id="44" name="Picture 22" descr="elGraf_01"/>
          <p:cNvPicPr/>
          <p:nvPr/>
        </p:nvPicPr>
        <p:blipFill>
          <a:blip r:embed="rId4"/>
          <a:stretch/>
        </p:blipFill>
        <p:spPr>
          <a:xfrm>
            <a:off x="252360" y="5452920"/>
            <a:ext cx="1440000" cy="10004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987640" y="476280"/>
            <a:ext cx="55706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ad47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 lvl="1" marL="803160" indent="-345960">
              <a:spcBef>
                <a:spcPts val="55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 lvl="2" marL="1255680" indent="-341280">
              <a:spcBef>
                <a:spcPts val="55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 lvl="3" marL="1701720" indent="-314280">
              <a:spcBef>
                <a:spcPts val="55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 lvl="4" marL="2154240" indent="-325440">
              <a:spcBef>
                <a:spcPts val="55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 lvl="5" marL="2154240" indent="-325440">
              <a:spcBef>
                <a:spcPts val="55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 lvl="6" marL="2154240" indent="-325440">
              <a:spcBef>
                <a:spcPts val="55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2"/>
    <p:sldLayoutId id="2147483663" r:id="rId13"/>
    <p:sldLayoutId id="2147483664" r:id="rId14"/>
    <p:sldLayoutId id="2147483665" r:id="rId15"/>
    <p:sldLayoutId id="2147483666" r:id="rId16"/>
    <p:sldLayoutId id="2147483667" r:id="rId17"/>
    <p:sldLayoutId id="2147483668" r:id="rId18"/>
    <p:sldLayoutId id="2147483669" r:id="rId19"/>
    <p:sldLayoutId id="2147483670" r:id="rId20"/>
    <p:sldLayoutId id="2147483671" r:id="rId21"/>
    <p:sldLayoutId id="2147483672" r:id="rId22"/>
    <p:sldLayoutId id="2147483673" r:id="rId2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3" descr="bullet3"/>
          <p:cNvPicPr/>
          <p:nvPr/>
        </p:nvPicPr>
        <p:blipFill>
          <a:blip r:embed="rId2"/>
          <a:stretch/>
        </p:blipFill>
        <p:spPr>
          <a:xfrm>
            <a:off x="8244000" y="6210360"/>
            <a:ext cx="934920" cy="747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logo_clear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355680" y="260280"/>
            <a:ext cx="2200320" cy="103212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18"/>
          <p:cNvSpPr/>
          <p:nvPr/>
        </p:nvSpPr>
        <p:spPr>
          <a:xfrm>
            <a:off x="-252360" y="1515960"/>
            <a:ext cx="608040" cy="4694400"/>
          </a:xfrm>
          <a:custGeom>
            <a:avLst/>
            <a:gdLst>
              <a:gd name="textAreaLeft" fmla="*/ 59400 w 608040"/>
              <a:gd name="textAreaRight" fmla="*/ 548640 w 608040"/>
              <a:gd name="textAreaTop" fmla="*/ 59400 h 4694400"/>
              <a:gd name="textAreaBottom" fmla="*/ 4635000 h 4694400"/>
            </a:gdLst>
            <a:ahLst/>
            <a:rect l="textAreaLeft" t="textAreaTop" r="textAreaRight" b="textAreaBottom"/>
            <a:pathLst>
              <a:path w="21600" h="166678">
                <a:moveTo>
                  <a:pt x="7220" y="0"/>
                </a:moveTo>
                <a:arcTo wR="7220" hR="7220" stAng="16200000" swAng="-5400000"/>
                <a:lnTo>
                  <a:pt x="0" y="159458"/>
                </a:lnTo>
                <a:arcTo wR="7220" hR="7220" stAng="10800000" swAng="-5400000"/>
                <a:lnTo>
                  <a:pt x="14380" y="166678"/>
                </a:lnTo>
                <a:arcTo wR="7220" hR="7220" stAng="5400000" swAng="-5400000"/>
                <a:lnTo>
                  <a:pt x="21600" y="7220"/>
                </a:lnTo>
                <a:arcTo wR="7220" hR="7220" stAng="0" swAng="-5400000"/>
                <a:close/>
              </a:path>
            </a:pathLst>
          </a:custGeom>
          <a:solidFill>
            <a:srgbClr val="89a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987640" y="476280"/>
            <a:ext cx="55706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ad47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 lvl="1" marL="803160" indent="-345960">
              <a:spcBef>
                <a:spcPts val="55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 lvl="2" marL="1255680" indent="-341280">
              <a:spcBef>
                <a:spcPts val="55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 lvl="3" marL="1701720" indent="-314280">
              <a:spcBef>
                <a:spcPts val="55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 lvl="4" marL="2154240" indent="-325440">
              <a:spcBef>
                <a:spcPts val="55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 lvl="5" marL="2154240" indent="-325440">
              <a:spcBef>
                <a:spcPts val="55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 lvl="6" marL="2154240" indent="-325440">
              <a:spcBef>
                <a:spcPts val="55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4"/>
          </p:nvPr>
        </p:nvSpPr>
        <p:spPr>
          <a:xfrm>
            <a:off x="8317080" y="6462720"/>
            <a:ext cx="40464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ad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09F8E-50E2-493A-A3C1-7C11C911D563}" type="slidenum">
              <a:rPr b="0" lang="en-US" sz="1200" spc="-1" strike="noStrike">
                <a:solidFill>
                  <a:srgbClr val="89ad4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1"/>
    <p:sldLayoutId id="2147483676" r:id="rId12"/>
    <p:sldLayoutId id="2147483677" r:id="rId13"/>
    <p:sldLayoutId id="2147483678" r:id="rId14"/>
    <p:sldLayoutId id="2147483679" r:id="rId15"/>
    <p:sldLayoutId id="2147483680" r:id="rId16"/>
    <p:sldLayoutId id="2147483681" r:id="rId17"/>
    <p:sldLayoutId id="2147483682" r:id="rId18"/>
    <p:sldLayoutId id="2147483683" r:id="rId19"/>
    <p:sldLayoutId id="2147483684" r:id="rId20"/>
    <p:sldLayoutId id="2147483685" r:id="rId21"/>
    <p:sldLayoutId id="2147483686" r:id="rId22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3" descr="bullet3"/>
          <p:cNvPicPr/>
          <p:nvPr/>
        </p:nvPicPr>
        <p:blipFill>
          <a:blip r:embed="rId2"/>
          <a:stretch/>
        </p:blipFill>
        <p:spPr>
          <a:xfrm>
            <a:off x="8244000" y="6210360"/>
            <a:ext cx="934920" cy="7477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logo_clear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355680" y="260280"/>
            <a:ext cx="2200320" cy="103212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18"/>
          <p:cNvSpPr/>
          <p:nvPr/>
        </p:nvSpPr>
        <p:spPr>
          <a:xfrm>
            <a:off x="8820000" y="1515960"/>
            <a:ext cx="608040" cy="4694400"/>
          </a:xfrm>
          <a:custGeom>
            <a:avLst/>
            <a:gdLst>
              <a:gd name="textAreaLeft" fmla="*/ 59400 w 608040"/>
              <a:gd name="textAreaRight" fmla="*/ 548640 w 608040"/>
              <a:gd name="textAreaTop" fmla="*/ 59400 h 4694400"/>
              <a:gd name="textAreaBottom" fmla="*/ 4635000 h 4694400"/>
            </a:gdLst>
            <a:ahLst/>
            <a:rect l="textAreaLeft" t="textAreaTop" r="textAreaRight" b="textAreaBottom"/>
            <a:pathLst>
              <a:path w="21600" h="166678">
                <a:moveTo>
                  <a:pt x="7220" y="0"/>
                </a:moveTo>
                <a:arcTo wR="7220" hR="7220" stAng="16200000" swAng="-5400000"/>
                <a:lnTo>
                  <a:pt x="0" y="159458"/>
                </a:lnTo>
                <a:arcTo wR="7220" hR="7220" stAng="10800000" swAng="-5400000"/>
                <a:lnTo>
                  <a:pt x="14380" y="166678"/>
                </a:lnTo>
                <a:arcTo wR="7220" hR="7220" stAng="5400000" swAng="-5400000"/>
                <a:lnTo>
                  <a:pt x="21600" y="7220"/>
                </a:lnTo>
                <a:arcTo wR="7220" hR="7220" stAng="0" swAng="-5400000"/>
                <a:close/>
              </a:path>
            </a:pathLst>
          </a:custGeom>
          <a:solidFill>
            <a:srgbClr val="0089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130" name="AutoShape 18"/>
          <p:cNvSpPr/>
          <p:nvPr/>
        </p:nvSpPr>
        <p:spPr>
          <a:xfrm>
            <a:off x="-252360" y="1587600"/>
            <a:ext cx="536400" cy="473040"/>
          </a:xfrm>
          <a:prstGeom prst="roundRect">
            <a:avLst>
              <a:gd name="adj" fmla="val 33426"/>
            </a:avLst>
          </a:prstGeom>
          <a:solidFill>
            <a:srgbClr val="89a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987640" y="476280"/>
            <a:ext cx="55706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ad47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 lvl="1" marL="803160" indent="-345960">
              <a:spcBef>
                <a:spcPts val="55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 lvl="2" marL="1255680" indent="-341280">
              <a:spcBef>
                <a:spcPts val="55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 lvl="3" marL="1701720" indent="-314280">
              <a:spcBef>
                <a:spcPts val="55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 lvl="4" marL="2154240" indent="-325440">
              <a:spcBef>
                <a:spcPts val="55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 lvl="5" marL="2154240" indent="-325440">
              <a:spcBef>
                <a:spcPts val="55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 lvl="6" marL="2154240" indent="-325440">
              <a:spcBef>
                <a:spcPts val="55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7"/>
          </p:nvPr>
        </p:nvSpPr>
        <p:spPr>
          <a:xfrm>
            <a:off x="8317080" y="6462720"/>
            <a:ext cx="40464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ad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7B3B5-93D6-49FE-A493-3C10B38B3ED3}" type="slidenum">
              <a:rPr b="0" lang="en-US" sz="1200" spc="-1" strike="noStrike">
                <a:solidFill>
                  <a:srgbClr val="89ad4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1"/>
    <p:sldLayoutId id="2147483689" r:id="rId12"/>
    <p:sldLayoutId id="2147483690" r:id="rId13"/>
    <p:sldLayoutId id="2147483691" r:id="rId14"/>
    <p:sldLayoutId id="2147483692" r:id="rId15"/>
    <p:sldLayoutId id="2147483693" r:id="rId16"/>
    <p:sldLayoutId id="2147483694" r:id="rId17"/>
    <p:sldLayoutId id="2147483695" r:id="rId18"/>
    <p:sldLayoutId id="2147483696" r:id="rId19"/>
    <p:sldLayoutId id="2147483697" r:id="rId20"/>
    <p:sldLayoutId id="2147483698" r:id="rId21"/>
    <p:sldLayoutId id="2147483699" r:id="rId22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13" descr="bullet3"/>
          <p:cNvPicPr/>
          <p:nvPr/>
        </p:nvPicPr>
        <p:blipFill>
          <a:blip r:embed="rId2"/>
          <a:stretch/>
        </p:blipFill>
        <p:spPr>
          <a:xfrm>
            <a:off x="8244000" y="6210360"/>
            <a:ext cx="934920" cy="747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logo_clear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355680" y="260280"/>
            <a:ext cx="2200320" cy="1032120"/>
          </a:xfrm>
          <a:prstGeom prst="rect">
            <a:avLst/>
          </a:prstGeom>
          <a:ln w="0">
            <a:noFill/>
          </a:ln>
        </p:spPr>
      </p:pic>
      <p:sp>
        <p:nvSpPr>
          <p:cNvPr id="174" name="AutoShape 18"/>
          <p:cNvSpPr/>
          <p:nvPr/>
        </p:nvSpPr>
        <p:spPr>
          <a:xfrm>
            <a:off x="-252360" y="1515960"/>
            <a:ext cx="608040" cy="4694400"/>
          </a:xfrm>
          <a:custGeom>
            <a:avLst/>
            <a:gdLst>
              <a:gd name="textAreaLeft" fmla="*/ 59400 w 608040"/>
              <a:gd name="textAreaRight" fmla="*/ 548640 w 608040"/>
              <a:gd name="textAreaTop" fmla="*/ 59400 h 4694400"/>
              <a:gd name="textAreaBottom" fmla="*/ 4635000 h 4694400"/>
            </a:gdLst>
            <a:ahLst/>
            <a:rect l="textAreaLeft" t="textAreaTop" r="textAreaRight" b="textAreaBottom"/>
            <a:pathLst>
              <a:path w="21600" h="166678">
                <a:moveTo>
                  <a:pt x="7220" y="0"/>
                </a:moveTo>
                <a:arcTo wR="7220" hR="7220" stAng="16200000" swAng="-5400000"/>
                <a:lnTo>
                  <a:pt x="0" y="159458"/>
                </a:lnTo>
                <a:arcTo wR="7220" hR="7220" stAng="10800000" swAng="-5400000"/>
                <a:lnTo>
                  <a:pt x="14380" y="166678"/>
                </a:lnTo>
                <a:arcTo wR="7220" hR="7220" stAng="5400000" swAng="-5400000"/>
                <a:lnTo>
                  <a:pt x="21600" y="7220"/>
                </a:lnTo>
                <a:arcTo wR="7220" hR="7220" stAng="0" swAng="-5400000"/>
                <a:close/>
              </a:path>
            </a:pathLst>
          </a:custGeom>
          <a:solidFill>
            <a:srgbClr val="89a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175" name="AutoShape 18"/>
          <p:cNvSpPr/>
          <p:nvPr/>
        </p:nvSpPr>
        <p:spPr>
          <a:xfrm>
            <a:off x="8893080" y="1587600"/>
            <a:ext cx="534960" cy="473040"/>
          </a:xfrm>
          <a:prstGeom prst="roundRect">
            <a:avLst>
              <a:gd name="adj" fmla="val 33426"/>
            </a:avLst>
          </a:prstGeom>
          <a:solidFill>
            <a:srgbClr val="0089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987640" y="476280"/>
            <a:ext cx="55706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ad47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 lvl="1" marL="803160" indent="-345960">
              <a:spcBef>
                <a:spcPts val="55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 lvl="2" marL="1255680" indent="-341280">
              <a:spcBef>
                <a:spcPts val="55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 lvl="3" marL="1701720" indent="-314280">
              <a:spcBef>
                <a:spcPts val="55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 lvl="4" marL="2154240" indent="-325440">
              <a:spcBef>
                <a:spcPts val="55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 lvl="5" marL="2154240" indent="-325440">
              <a:spcBef>
                <a:spcPts val="55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 lvl="6" marL="2154240" indent="-325440">
              <a:spcBef>
                <a:spcPts val="55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0"/>
          </p:nvPr>
        </p:nvSpPr>
        <p:spPr>
          <a:xfrm>
            <a:off x="8317080" y="6462720"/>
            <a:ext cx="40464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ad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4D766-5FD0-4FA4-B4F5-5FE5E52A93FD}" type="slidenum">
              <a:rPr b="0" lang="en-US" sz="1200" spc="-1" strike="noStrike">
                <a:solidFill>
                  <a:srgbClr val="89ad4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1"/>
    <p:sldLayoutId id="2147483702" r:id="rId12"/>
    <p:sldLayoutId id="2147483703" r:id="rId13"/>
    <p:sldLayoutId id="2147483704" r:id="rId14"/>
    <p:sldLayoutId id="2147483705" r:id="rId15"/>
    <p:sldLayoutId id="2147483706" r:id="rId16"/>
    <p:sldLayoutId id="2147483707" r:id="rId17"/>
    <p:sldLayoutId id="2147483708" r:id="rId18"/>
    <p:sldLayoutId id="2147483709" r:id="rId19"/>
    <p:sldLayoutId id="2147483710" r:id="rId20"/>
    <p:sldLayoutId id="2147483711" r:id="rId21"/>
    <p:sldLayoutId id="2147483712" r:id="rId22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rostokąt zaokrąglony 4"/>
          <p:cNvSpPr/>
          <p:nvPr/>
        </p:nvSpPr>
        <p:spPr>
          <a:xfrm>
            <a:off x="-684360" y="2278080"/>
            <a:ext cx="2376720" cy="2735280"/>
          </a:xfrm>
          <a:custGeom>
            <a:avLst/>
            <a:gdLst>
              <a:gd name="textAreaLeft" fmla="*/ 82080 w 2376720"/>
              <a:gd name="textAreaRight" fmla="*/ 2294640 w 2376720"/>
              <a:gd name="textAreaTop" fmla="*/ 82080 h 2735280"/>
              <a:gd name="textAreaBottom" fmla="*/ 2653200 h 2735280"/>
            </a:gdLst>
            <a:ahLst/>
            <a:rect l="textAreaLeft" t="textAreaTop" r="textAreaRight" b="textAreaBottom"/>
            <a:pathLst>
              <a:path w="21600" h="24858">
                <a:moveTo>
                  <a:pt x="2548" y="0"/>
                </a:moveTo>
                <a:arcTo wR="2548" hR="2548" stAng="16200000" swAng="-5400000"/>
                <a:lnTo>
                  <a:pt x="0" y="22310"/>
                </a:lnTo>
                <a:arcTo wR="2548" hR="2548" stAng="10800000" swAng="-5400000"/>
                <a:lnTo>
                  <a:pt x="19052" y="24858"/>
                </a:lnTo>
                <a:arcTo wR="2548" hR="2548" stAng="5400000" swAng="-5400000"/>
                <a:lnTo>
                  <a:pt x="21600" y="2548"/>
                </a:lnTo>
                <a:arcTo wR="2548" hR="2548" stAng="0" swAng="-5400000"/>
                <a:close/>
              </a:path>
            </a:pathLst>
          </a:custGeom>
          <a:solidFill>
            <a:srgbClr val="0089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9ba"/>
              </a:solidFill>
              <a:latin typeface="Arial"/>
            </a:endParaRPr>
          </a:p>
        </p:txBody>
      </p:sp>
      <p:pic>
        <p:nvPicPr>
          <p:cNvPr id="218" name="Picture 13" descr="bullet3"/>
          <p:cNvPicPr/>
          <p:nvPr/>
        </p:nvPicPr>
        <p:blipFill>
          <a:blip r:embed="rId2"/>
          <a:stretch/>
        </p:blipFill>
        <p:spPr>
          <a:xfrm>
            <a:off x="8244000" y="6210360"/>
            <a:ext cx="934920" cy="7477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7" descr="logo_clear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355680" y="260280"/>
            <a:ext cx="2200320" cy="1032120"/>
          </a:xfrm>
          <a:prstGeom prst="rect">
            <a:avLst/>
          </a:prstGeom>
          <a:ln w="0">
            <a:noFill/>
          </a:ln>
        </p:spPr>
      </p:pic>
      <p:sp>
        <p:nvSpPr>
          <p:cNvPr id="220" name="Prostokąt zaokrąglony 7"/>
          <p:cNvSpPr/>
          <p:nvPr/>
        </p:nvSpPr>
        <p:spPr>
          <a:xfrm>
            <a:off x="611280" y="1413000"/>
            <a:ext cx="7993080" cy="4608360"/>
          </a:xfrm>
          <a:prstGeom prst="roundRect">
            <a:avLst>
              <a:gd name="adj" fmla="val 6144"/>
            </a:avLst>
          </a:prstGeom>
          <a:solidFill>
            <a:srgbClr val="ffffff"/>
          </a:solidFill>
          <a:ln w="25560">
            <a:solidFill>
              <a:srgbClr val="89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221" name="Prostokąt zaokrąglony 8"/>
          <p:cNvSpPr/>
          <p:nvPr/>
        </p:nvSpPr>
        <p:spPr>
          <a:xfrm>
            <a:off x="4067280" y="4726080"/>
            <a:ext cx="5329080" cy="1511280"/>
          </a:xfrm>
          <a:prstGeom prst="roundRect">
            <a:avLst>
              <a:gd name="adj" fmla="val 12986"/>
            </a:avLst>
          </a:prstGeom>
          <a:solidFill>
            <a:srgbClr val="89a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987640" y="476280"/>
            <a:ext cx="55706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ad47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 lvl="1" marL="803160" indent="-345960">
              <a:spcBef>
                <a:spcPts val="55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 lvl="2" marL="1255680" indent="-341280">
              <a:spcBef>
                <a:spcPts val="55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 lvl="3" marL="1701720" indent="-314280">
              <a:spcBef>
                <a:spcPts val="55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 lvl="4" marL="2154240" indent="-325440">
              <a:spcBef>
                <a:spcPts val="55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 lvl="5" marL="2154240" indent="-325440">
              <a:spcBef>
                <a:spcPts val="55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 lvl="6" marL="2154240" indent="-325440">
              <a:spcBef>
                <a:spcPts val="55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3"/>
          </p:nvPr>
        </p:nvSpPr>
        <p:spPr>
          <a:xfrm>
            <a:off x="8317080" y="6462720"/>
            <a:ext cx="40464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ad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B1F84-D964-4FA5-ADB3-DED77CDFFE91}" type="slidenum">
              <a:rPr b="0" lang="en-US" sz="1200" spc="-1" strike="noStrike">
                <a:solidFill>
                  <a:srgbClr val="89ad4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1"/>
    <p:sldLayoutId id="2147483715" r:id="rId12"/>
    <p:sldLayoutId id="2147483716" r:id="rId13"/>
    <p:sldLayoutId id="2147483717" r:id="rId14"/>
    <p:sldLayoutId id="2147483718" r:id="rId15"/>
    <p:sldLayoutId id="2147483719" r:id="rId16"/>
    <p:sldLayoutId id="2147483720" r:id="rId17"/>
    <p:sldLayoutId id="2147483721" r:id="rId18"/>
    <p:sldLayoutId id="2147483722" r:id="rId19"/>
    <p:sldLayoutId id="2147483723" r:id="rId20"/>
    <p:sldLayoutId id="2147483724" r:id="rId21"/>
    <p:sldLayoutId id="2147483725" r:id="rId22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rostokąt zaokrąglony 4"/>
          <p:cNvSpPr/>
          <p:nvPr/>
        </p:nvSpPr>
        <p:spPr>
          <a:xfrm>
            <a:off x="-684360" y="2278080"/>
            <a:ext cx="2376720" cy="2735280"/>
          </a:xfrm>
          <a:custGeom>
            <a:avLst/>
            <a:gdLst>
              <a:gd name="textAreaLeft" fmla="*/ 82080 w 2376720"/>
              <a:gd name="textAreaRight" fmla="*/ 2294640 w 2376720"/>
              <a:gd name="textAreaTop" fmla="*/ 82080 h 2735280"/>
              <a:gd name="textAreaBottom" fmla="*/ 2653200 h 2735280"/>
            </a:gdLst>
            <a:ahLst/>
            <a:rect l="textAreaLeft" t="textAreaTop" r="textAreaRight" b="textAreaBottom"/>
            <a:pathLst>
              <a:path w="21600" h="24858">
                <a:moveTo>
                  <a:pt x="2548" y="0"/>
                </a:moveTo>
                <a:arcTo wR="2548" hR="2548" stAng="16200000" swAng="-5400000"/>
                <a:lnTo>
                  <a:pt x="0" y="22310"/>
                </a:lnTo>
                <a:arcTo wR="2548" hR="2548" stAng="10800000" swAng="-5400000"/>
                <a:lnTo>
                  <a:pt x="19052" y="24858"/>
                </a:lnTo>
                <a:arcTo wR="2548" hR="2548" stAng="5400000" swAng="-5400000"/>
                <a:lnTo>
                  <a:pt x="21600" y="2548"/>
                </a:lnTo>
                <a:arcTo wR="2548" hR="2548" stAng="0" swAng="-5400000"/>
                <a:close/>
              </a:path>
            </a:pathLst>
          </a:custGeom>
          <a:solidFill>
            <a:srgbClr val="89a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9ba"/>
              </a:solidFill>
              <a:latin typeface="Arial"/>
            </a:endParaRPr>
          </a:p>
        </p:txBody>
      </p:sp>
      <p:pic>
        <p:nvPicPr>
          <p:cNvPr id="264" name="Picture 13" descr="bullet3"/>
          <p:cNvPicPr/>
          <p:nvPr/>
        </p:nvPicPr>
        <p:blipFill>
          <a:blip r:embed="rId2"/>
          <a:stretch/>
        </p:blipFill>
        <p:spPr>
          <a:xfrm>
            <a:off x="8244000" y="6210360"/>
            <a:ext cx="934920" cy="747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7" descr="logo_clear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355680" y="260280"/>
            <a:ext cx="2200320" cy="1032120"/>
          </a:xfrm>
          <a:prstGeom prst="rect">
            <a:avLst/>
          </a:prstGeom>
          <a:ln w="0">
            <a:noFill/>
          </a:ln>
        </p:spPr>
      </p:pic>
      <p:sp>
        <p:nvSpPr>
          <p:cNvPr id="266" name="Prostokąt zaokrąglony 7"/>
          <p:cNvSpPr/>
          <p:nvPr/>
        </p:nvSpPr>
        <p:spPr>
          <a:xfrm>
            <a:off x="611280" y="1413000"/>
            <a:ext cx="7993080" cy="4608360"/>
          </a:xfrm>
          <a:prstGeom prst="roundRect">
            <a:avLst>
              <a:gd name="adj" fmla="val 6144"/>
            </a:avLst>
          </a:prstGeom>
          <a:solidFill>
            <a:srgbClr val="ffffff"/>
          </a:solidFill>
          <a:ln w="25560">
            <a:solidFill>
              <a:srgbClr val="0089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267" name="Prostokąt zaokrąglony 8"/>
          <p:cNvSpPr/>
          <p:nvPr/>
        </p:nvSpPr>
        <p:spPr>
          <a:xfrm>
            <a:off x="4067280" y="4726080"/>
            <a:ext cx="5329080" cy="1511280"/>
          </a:xfrm>
          <a:prstGeom prst="roundRect">
            <a:avLst>
              <a:gd name="adj" fmla="val 12986"/>
            </a:avLst>
          </a:prstGeom>
          <a:solidFill>
            <a:srgbClr val="0089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7640" y="476280"/>
            <a:ext cx="55706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ad47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 lvl="1" marL="803160" indent="-345960">
              <a:spcBef>
                <a:spcPts val="55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 lvl="2" marL="1255680" indent="-341280">
              <a:spcBef>
                <a:spcPts val="55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 lvl="3" marL="1701720" indent="-314280">
              <a:spcBef>
                <a:spcPts val="55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 lvl="4" marL="2154240" indent="-325440">
              <a:spcBef>
                <a:spcPts val="55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 lvl="5" marL="2154240" indent="-325440">
              <a:spcBef>
                <a:spcPts val="55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 lvl="6" marL="2154240" indent="-325440">
              <a:spcBef>
                <a:spcPts val="55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1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16"/>
          </p:nvPr>
        </p:nvSpPr>
        <p:spPr>
          <a:xfrm>
            <a:off x="8317080" y="6462720"/>
            <a:ext cx="40464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ad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CE12F-5E77-46AC-9987-880595553C13}" type="slidenum">
              <a:rPr b="0" lang="en-US" sz="1200" spc="-1" strike="noStrike">
                <a:solidFill>
                  <a:srgbClr val="89ad4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1"/>
    <p:sldLayoutId id="2147483728" r:id="rId12"/>
    <p:sldLayoutId id="2147483729" r:id="rId13"/>
    <p:sldLayoutId id="2147483730" r:id="rId14"/>
    <p:sldLayoutId id="2147483731" r:id="rId15"/>
    <p:sldLayoutId id="2147483732" r:id="rId16"/>
    <p:sldLayoutId id="2147483733" r:id="rId17"/>
    <p:sldLayoutId id="2147483734" r:id="rId18"/>
    <p:sldLayoutId id="2147483735" r:id="rId19"/>
    <p:sldLayoutId id="2147483736" r:id="rId20"/>
    <p:sldLayoutId id="2147483737" r:id="rId21"/>
    <p:sldLayoutId id="2147483738" r:id="rId22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13" descr="bullet3"/>
          <p:cNvPicPr/>
          <p:nvPr/>
        </p:nvPicPr>
        <p:blipFill>
          <a:blip r:embed="rId2"/>
          <a:stretch/>
        </p:blipFill>
        <p:spPr>
          <a:xfrm>
            <a:off x="8244000" y="6210360"/>
            <a:ext cx="934920" cy="7477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7" descr="logo_clear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355680" y="260280"/>
            <a:ext cx="2200320" cy="103212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987640" y="476280"/>
            <a:ext cx="55706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ad47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 lvl="1" marL="803160" indent="-345960">
              <a:spcBef>
                <a:spcPts val="55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 lvl="2" marL="1255680" indent="-341280">
              <a:spcBef>
                <a:spcPts val="55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 lvl="3" marL="1701720" indent="-314280">
              <a:spcBef>
                <a:spcPts val="55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 lvl="4" marL="2154240" indent="-325440">
              <a:spcBef>
                <a:spcPts val="55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 lvl="5" marL="2154240" indent="-325440">
              <a:spcBef>
                <a:spcPts val="55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 lvl="6" marL="2154240" indent="-325440">
              <a:spcBef>
                <a:spcPts val="55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19"/>
          </p:nvPr>
        </p:nvSpPr>
        <p:spPr>
          <a:xfrm>
            <a:off x="8317080" y="6462720"/>
            <a:ext cx="40464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ad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C27FC-4F51-4FC1-ABCC-F0980DF3398C}" type="slidenum">
              <a:rPr b="0" lang="en-US" sz="1200" spc="-1" strike="noStrike">
                <a:solidFill>
                  <a:srgbClr val="89ad4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1"/>
    <p:sldLayoutId id="2147483741" r:id="rId12"/>
    <p:sldLayoutId id="2147483742" r:id="rId13"/>
    <p:sldLayoutId id="2147483743" r:id="rId14"/>
    <p:sldLayoutId id="2147483744" r:id="rId15"/>
    <p:sldLayoutId id="2147483745" r:id="rId16"/>
    <p:sldLayoutId id="2147483746" r:id="rId17"/>
    <p:sldLayoutId id="2147483747" r:id="rId18"/>
    <p:sldLayoutId id="2147483748" r:id="rId19"/>
    <p:sldLayoutId id="2147483749" r:id="rId20"/>
    <p:sldLayoutId id="2147483750" r:id="rId21"/>
    <p:sldLayoutId id="2147483751" r:id="rId22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8" descr="logo_clear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355680" y="260280"/>
            <a:ext cx="2200320" cy="1032120"/>
          </a:xfrm>
          <a:prstGeom prst="rect">
            <a:avLst/>
          </a:prstGeom>
          <a:ln w="0">
            <a:noFill/>
          </a:ln>
        </p:spPr>
      </p:pic>
      <p:sp>
        <p:nvSpPr>
          <p:cNvPr id="353" name="Rectangle 9"/>
          <p:cNvSpPr/>
          <p:nvPr/>
        </p:nvSpPr>
        <p:spPr>
          <a:xfrm>
            <a:off x="0" y="1700280"/>
            <a:ext cx="9144000" cy="3816360"/>
          </a:xfrm>
          <a:prstGeom prst="rect">
            <a:avLst/>
          </a:prstGeom>
          <a:solidFill>
            <a:srgbClr val="0089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987640" y="476280"/>
            <a:ext cx="55706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ad47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 lvl="1" marL="803160" indent="-345960"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 lvl="2" marL="1255680" indent="-341280">
              <a:spcBef>
                <a:spcPts val="55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 lvl="3" marL="1701720" indent="-314280">
              <a:spcBef>
                <a:spcPts val="55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 lvl="4" marL="2154240" indent="-325440">
              <a:spcBef>
                <a:spcPts val="55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 lvl="5" marL="2154240" indent="-325440">
              <a:spcBef>
                <a:spcPts val="55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 lvl="6" marL="2154240" indent="-325440">
              <a:spcBef>
                <a:spcPts val="55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10"/>
    <p:sldLayoutId id="2147483754" r:id="rId11"/>
    <p:sldLayoutId id="2147483755" r:id="rId12"/>
    <p:sldLayoutId id="2147483756" r:id="rId13"/>
    <p:sldLayoutId id="2147483757" r:id="rId14"/>
    <p:sldLayoutId id="2147483758" r:id="rId15"/>
    <p:sldLayoutId id="2147483759" r:id="rId16"/>
    <p:sldLayoutId id="2147483760" r:id="rId17"/>
    <p:sldLayoutId id="2147483761" r:id="rId18"/>
    <p:sldLayoutId id="2147483762" r:id="rId19"/>
    <p:sldLayoutId id="2147483763" r:id="rId20"/>
    <p:sldLayoutId id="2147483764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7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0" y="4660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Y GOSPODARKI ODPADAMI JAKO NARZĘDZIE POLITYKI EKOLOGICZNEJ PAŃSTWA </a:t>
            </a:r>
            <a:endParaRPr b="0" lang="en-US" sz="28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995280" y="5862240"/>
            <a:ext cx="4451400" cy="99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8000"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ad47"/>
                </a:solidFill>
                <a:latin typeface="Arial"/>
              </a:rPr>
              <a:t>Beata B. Kłopotek</a:t>
            </a:r>
            <a:endParaRPr b="0" lang="en-US" sz="2000" spc="-1" strike="noStrike">
              <a:solidFill>
                <a:srgbClr val="0089ba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ad47"/>
                </a:solidFill>
                <a:latin typeface="Arial"/>
              </a:rPr>
              <a:t>Departament Gospodarki Odpadami</a:t>
            </a:r>
            <a:endParaRPr b="0" lang="en-US" sz="2000" spc="-1" strike="noStrike">
              <a:solidFill>
                <a:srgbClr val="0089ba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ad47"/>
                </a:solidFill>
                <a:latin typeface="Arial"/>
              </a:rPr>
              <a:t>Gdańsk, 26 sierpnia 2011 r.</a:t>
            </a:r>
            <a:endParaRPr b="0" lang="en-US" sz="2000" spc="-1" strike="noStrike">
              <a:solidFill>
                <a:srgbClr val="0089ba"/>
              </a:solidFill>
              <a:latin typeface="Arial"/>
            </a:endParaRPr>
          </a:p>
        </p:txBody>
      </p:sp>
      <p:pic>
        <p:nvPicPr>
          <p:cNvPr id="444" name="Picture 27" descr="krokusy02a"/>
          <p:cNvPicPr/>
          <p:nvPr/>
        </p:nvPicPr>
        <p:blipFill>
          <a:blip r:embed="rId1"/>
          <a:stretch/>
        </p:blipFill>
        <p:spPr>
          <a:xfrm>
            <a:off x="5303880" y="590400"/>
            <a:ext cx="3479760" cy="3951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987640" y="476280"/>
            <a:ext cx="557064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ad47"/>
                </a:solidFill>
                <a:latin typeface="Arial"/>
              </a:rPr>
              <a:t>PEP – cele średniookresowe do 2016 r. w zakresie gospodarki odpadami - 2</a:t>
            </a:r>
            <a:endParaRPr b="0" lang="en-US" sz="24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eliminacja kierowania na składowiska zużytego sprzętu elektrycznego i elektronicznego oraz zużytych baterii </a:t>
            </a:r>
            <a:br>
              <a:rPr sz="2200"/>
            </a:b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i akumulatorów,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pełne zorganizowanie krajowego systemu zbierania </a:t>
            </a:r>
            <a:r>
              <a:rPr b="0" i="1" lang="en-US" sz="2200" spc="-1" strike="noStrike">
                <a:solidFill>
                  <a:srgbClr val="0089ba"/>
                </a:solidFill>
                <a:latin typeface="Arial"/>
              </a:rPr>
              <a:t>wraków samochodów</a:t>
            </a: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 i demontaż pojazdów wycofanych z eksploatacji,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takie zorganizowanie systemu preselekcji, sortowania </a:t>
            </a:r>
            <a:br>
              <a:rPr sz="2200"/>
            </a:b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i odzysku odpadów komunalnych, aby na składowiska nie trafiało ich więcej niż 50% w stosunku do odpadów wytworzonych w gospodarstwach domowych.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481" name="Symbol zastępczy numeru slajdu 4"/>
          <p:cNvSpPr/>
          <p:nvPr/>
        </p:nvSpPr>
        <p:spPr>
          <a:xfrm>
            <a:off x="8317080" y="6462720"/>
            <a:ext cx="4046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2DB70-E1C5-41D5-B673-48297E9737A8}" type="slidenum">
              <a:rPr b="0" lang="en-US" sz="1200" spc="-1" strike="noStrike">
                <a:solidFill>
                  <a:srgbClr val="89ad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89ba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619272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ad47"/>
                </a:solidFill>
                <a:latin typeface="Arial"/>
              </a:rPr>
              <a:t>PEP – kierunki działań w latach 2009–2012 w zakresie gospodarki odpadami – 1</a:t>
            </a:r>
            <a:endParaRPr b="0" lang="en-US" sz="24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zorganizowanie banku danych o odpadach (do końca 2009 r.), 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reforma obecnego systemu zbierania i odzysku odpadów komunalnych w gminach, dająca władzom samorządowym znacznie większe uprawnienia w zarządzaniu i kontrolowaniu systemu (do końca 2009 r.), 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zwiększenie stawek opłat za składowanie odpadów zmieszanych </a:t>
            </a:r>
            <a:r>
              <a:rPr b="0" i="1" lang="pl-PL" sz="2200" spc="-1" strike="noStrike">
                <a:solidFill>
                  <a:srgbClr val="0089ba"/>
                </a:solidFill>
                <a:latin typeface="Arial"/>
              </a:rPr>
              <a:t>biodegradowalnych (ulegających biodegradacji)</a:t>
            </a: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 oraz odpadów, które można poddać procesom odzysku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finansowe wspieranie przez fundusze ekologiczne inwestycji dotyczących odzysku i recyklingu odpadów, a także wspieranie wdrożeń nowych technologii w tym zakresie,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484" name="Symbol zastępczy numeru slajdu 4"/>
          <p:cNvSpPr/>
          <p:nvPr/>
        </p:nvSpPr>
        <p:spPr>
          <a:xfrm>
            <a:off x="8317080" y="6462720"/>
            <a:ext cx="4046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1827B-72D1-49EE-89E6-E9E0901C6232}" type="slidenum">
              <a:rPr b="0" lang="en-US" sz="1200" spc="-1" strike="noStrike">
                <a:solidFill>
                  <a:srgbClr val="89ad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89ba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619272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ad47"/>
                </a:solidFill>
                <a:latin typeface="Arial"/>
              </a:rPr>
              <a:t>PEP – kierunki działań w latach 2009–2012 w zakresie gospodarki odpadami – 2</a:t>
            </a:r>
            <a:endParaRPr b="0" lang="en-US" sz="24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dostosowanie składowisk odpadów do standardów UE (do końca 2009 r.),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wprowadzenie rozwiązań poprawiających skuteczność systemu recyklingu </a:t>
            </a:r>
            <a:r>
              <a:rPr b="0" i="1" lang="pl-PL" sz="2200" spc="-1" strike="noStrike">
                <a:solidFill>
                  <a:srgbClr val="0089ba"/>
                </a:solidFill>
                <a:latin typeface="Arial"/>
              </a:rPr>
              <a:t>wyeksploatowanych pojazdów (pojazdów wycofanych z eksploatacji)</a:t>
            </a: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,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finansowe wspieranie przez fundusze ekologiczne modernizacji technologii prowadzących do zmniejszania ilości odpadów na jednostkę produkcji (technologie małoodpadowe),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realizacja projektów dotyczących redukcji ilości składowanych odpadów komunalnych i zwiększenia udziału odpadów komunalnych poddawanych odzyskowi i unieszkodliwieniu wspieranych dotacjami Programu Operacyjnego "Infrastruktura </a:t>
            </a:r>
            <a:br>
              <a:rPr sz="2200"/>
            </a:b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i Środowisko" ,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487" name="Symbol zastępczy numeru slajdu 4"/>
          <p:cNvSpPr/>
          <p:nvPr/>
        </p:nvSpPr>
        <p:spPr>
          <a:xfrm>
            <a:off x="8317080" y="6462720"/>
            <a:ext cx="4046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C4AC0-0A7E-411D-B76F-F9D0851040E4}" type="slidenum">
              <a:rPr b="0" lang="en-US" sz="1200" spc="-1" strike="noStrike">
                <a:solidFill>
                  <a:srgbClr val="89ad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89ba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619272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ad47"/>
                </a:solidFill>
                <a:latin typeface="Arial"/>
              </a:rPr>
              <a:t>PEP – kierunki działań w latach 2009–2012 w zakresie gospodarki odpadami – 3</a:t>
            </a:r>
            <a:endParaRPr b="0" lang="en-US" sz="24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intensyfikacja edukacji ekologicznej promującej minimalizację powstawania odpadów (np. opakowań, toreb foliowych) i ich preselekcję w gospodarstwach domowych,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wzmocnienie przez Inspekcję Ochrony Środowiska kontroli podmiotów odbierających odpady od wytwórców oraz podmiotów posiadających instalacje do </a:t>
            </a:r>
            <a:r>
              <a:rPr b="0" i="1" lang="pl-PL" sz="2200" spc="-1" strike="noStrike">
                <a:solidFill>
                  <a:srgbClr val="0089ba"/>
                </a:solidFill>
                <a:latin typeface="Arial"/>
              </a:rPr>
              <a:t>odzyskiwania (odzysku)</a:t>
            </a: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 </a:t>
            </a:r>
            <a:br>
              <a:rPr sz="2200"/>
            </a:b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i unieszkodliwiania odpadów, 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dokończenie akcji likwidacji mogilników zawierających przeterminowane środki ochrony roślin i inne odpady niebezpieczne oraz akcji eliminacji PCB z transformatorów </a:t>
            </a:r>
            <a:br>
              <a:rPr sz="2200"/>
            </a:b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i kondensatorów (do końca 2010 r.),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aktualizacja krajowego planu gospodarki odpadami (2010 r.).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490" name="Symbol zastępczy numeru slajdu 4"/>
          <p:cNvSpPr/>
          <p:nvPr/>
        </p:nvSpPr>
        <p:spPr>
          <a:xfrm>
            <a:off x="8317080" y="6462720"/>
            <a:ext cx="4046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012B9-EF07-43FF-86CC-09FF98ADC7F7}" type="slidenum">
              <a:rPr b="0" lang="en-US" sz="1200" spc="-1" strike="noStrike">
                <a:solidFill>
                  <a:srgbClr val="89ad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89ba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619272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ad47"/>
                </a:solidFill>
                <a:latin typeface="Arial"/>
              </a:rPr>
              <a:t>Nakłady finansowe na realizację PEP</a:t>
            </a:r>
            <a:endParaRPr b="0" lang="en-US" sz="24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 u="sng">
                <a:solidFill>
                  <a:srgbClr val="0089ba"/>
                </a:solidFill>
                <a:uFillTx/>
                <a:latin typeface="Arial"/>
              </a:rPr>
              <a:t>Gospodarka odpadami: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lata 2009-2012: 6,7 mld zł (ceny 2007 r.);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lata 2013-2016: 4,6 mld zł (ceny 2007 r.).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 u="sng">
                <a:solidFill>
                  <a:srgbClr val="0089ba"/>
                </a:solidFill>
                <a:uFillTx/>
                <a:latin typeface="Arial"/>
              </a:rPr>
              <a:t>Ochrona powietrza atmosferycznego: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lata 2009-2012: 19,3 mld zł (ceny 2007 r.);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lata 2013-2016: 21,3 mld zł (ceny 2007 r.)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 u="sng">
                <a:solidFill>
                  <a:srgbClr val="0089ba"/>
                </a:solidFill>
                <a:uFillTx/>
                <a:latin typeface="Arial"/>
              </a:rPr>
              <a:t>Ochrona wód i gospodarka wodna: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lata 2009-2012: 36,1 mld zł (ceny 2007 r.);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lata 2013-2016: 34,4 mld zł (ceny 2007 r.).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 u="sng">
                <a:solidFill>
                  <a:srgbClr val="0089ba"/>
                </a:solidFill>
                <a:uFillTx/>
                <a:latin typeface="Arial"/>
              </a:rPr>
              <a:t>Inne cele PEP: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buSzPct val="1029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lata 2009-2012: 4,1 mld zł (ceny 2007 r.);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buSzPct val="10290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lata 2013-2016: 4,6 mld zł (ceny 2007 r.).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493" name="Symbol zastępczy numeru slajdu 4"/>
          <p:cNvSpPr/>
          <p:nvPr/>
        </p:nvSpPr>
        <p:spPr>
          <a:xfrm>
            <a:off x="8317080" y="6462720"/>
            <a:ext cx="4046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CD38C-9CDE-436A-BB58-4D065E81E416}" type="slidenum">
              <a:rPr b="0" lang="en-US" sz="1200" spc="-1" strike="noStrike">
                <a:solidFill>
                  <a:srgbClr val="89ad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89ba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619272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ad47"/>
                </a:solidFill>
                <a:latin typeface="Arial"/>
              </a:rPr>
              <a:t>Nowe wymagania w zakresie planowania gospodarki odpadami - od 1 stycznia 2012 r.</a:t>
            </a:r>
            <a:endParaRPr b="0" lang="en-US" sz="24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 u="sng">
                <a:solidFill>
                  <a:srgbClr val="0089ba"/>
                </a:solidFill>
                <a:uFillTx/>
                <a:latin typeface="Arial"/>
              </a:rPr>
              <a:t>Główne źródła zmian: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ustawa z dnia 1 lipca 2011 r. o zmianie ustawy o utrzymaniu czystości i porządku w gminach oraz niektórych innych ustaw (Dz. U. Nr 152, poz. 897) – zmiana systemu gospodarki odpadami komunalnymi,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dyrektywa Parlamentu Europejskiego i Rady 2008/98/WE </a:t>
            </a:r>
            <a:br>
              <a:rPr sz="2200"/>
            </a:b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z dnia 19 listopada 2008 r. w sprawie odpadów oraz uchylająca niektóre dyrektywy (Dz. Urz. L 312 z 22.11.2008, str. 3) – m.in. wprowadzenie programów zapobiegania powstawaniu odpadów, udział zainteresowanych stron, organów i ogółu społeczeństwa w opracowywaniu planów, częstotliwość aktualizacji (co 6 lat),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praktyka stosowania prawa – m.in. ograniczenie poziomów planowania gospodarki odpadów do dwóch poziomów: krajowego i wojewódzkiego, uchwała o realizacji wojewódzkiego planu gospodarki odpadami aktem prawa miejscowego, wpgo – odrębnym dokumentem od programu ochrony środowiska.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496" name="Symbol zastępczy numeru slajdu 4"/>
          <p:cNvSpPr/>
          <p:nvPr/>
        </p:nvSpPr>
        <p:spPr>
          <a:xfrm>
            <a:off x="8317080" y="6462720"/>
            <a:ext cx="4046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6CB3B-1010-4046-87B4-B60CF97B4109}" type="slidenum">
              <a:rPr b="0" lang="en-US" sz="1200" spc="-1" strike="noStrike">
                <a:solidFill>
                  <a:srgbClr val="89ad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89ba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619272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ad47"/>
                </a:solidFill>
                <a:latin typeface="Arial"/>
              </a:rPr>
              <a:t>Planowanie gospodarki odpadami </a:t>
            </a:r>
            <a:br>
              <a:rPr sz="2400"/>
            </a:br>
            <a:r>
              <a:rPr b="0" lang="en-US" sz="2400" spc="-1" strike="noStrike">
                <a:solidFill>
                  <a:srgbClr val="89ad47"/>
                </a:solidFill>
                <a:latin typeface="Arial"/>
              </a:rPr>
              <a:t>na poziomie powiatowym i gminnym </a:t>
            </a:r>
            <a:br>
              <a:rPr sz="2400"/>
            </a:br>
            <a:r>
              <a:rPr b="0" lang="en-US" sz="2400" spc="-1" strike="noStrike">
                <a:solidFill>
                  <a:srgbClr val="89ad47"/>
                </a:solidFill>
                <a:latin typeface="Arial"/>
              </a:rPr>
              <a:t>w woj. pomorskim</a:t>
            </a:r>
            <a:endParaRPr b="0" lang="en-US" sz="24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3240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 u="sng">
                <a:solidFill>
                  <a:srgbClr val="0089ba"/>
                </a:solidFill>
                <a:uFillTx/>
                <a:latin typeface="Arial"/>
              </a:rPr>
              <a:t>Pierwsze plany: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ostatni plan powiatowy uchwalono 22 lutego 2006 r. (ustawowy termin uchwalenia pierwszych powiatowych planów gospodarki odpadami: 31 grudnia 2003 r.),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ostatni plan gminny uchwalono 5 lipca 2006 r. (ustawowy termin uchwalenia pierwszych gminnych planów gospodarki odpadami: 30 czerwca 2004 r.). 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 u="sng">
                <a:solidFill>
                  <a:srgbClr val="0089ba"/>
                </a:solidFill>
                <a:uFillTx/>
                <a:latin typeface="Arial"/>
              </a:rPr>
              <a:t>I aktualizacja planów – według stanu na dzień 31 grudnia 2010 r.:</a:t>
            </a: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17 powiatów (z 20) uchwaliło aktualizację powiatowego planu gospodarki odpadami (85,0%),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56 gmin (z 119) uchwaliło aktualizację gminnego planu gospodarki odpadami (47,1%). 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499" name="Symbol zastępczy numeru slajdu 4"/>
          <p:cNvSpPr/>
          <p:nvPr/>
        </p:nvSpPr>
        <p:spPr>
          <a:xfrm>
            <a:off x="8317080" y="6462720"/>
            <a:ext cx="4046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38665-78F9-44F5-850C-2EE8EF0D183C}" type="slidenum">
              <a:rPr b="0" lang="en-US" sz="1200" spc="-1" strike="noStrike">
                <a:solidFill>
                  <a:srgbClr val="89ad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89ba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619272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ad47"/>
                </a:solidFill>
                <a:latin typeface="Arial"/>
              </a:rPr>
              <a:t>Cel tworzenia planów gospodarki odpadami</a:t>
            </a:r>
            <a:endParaRPr b="0" lang="en-US" sz="24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3240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osiągnięcie celów założonych w polityce ekologicznej państwa, 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wdrażania hierarchii postępowania z odpadami oraz zasady bliskości,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utworzenie w kraju zintegrowanej sieci instalacji gospodarowania odpadami, spełniających wymagania ochrony środowiska.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502" name="Symbol zastępczy numeru slajdu 4"/>
          <p:cNvSpPr/>
          <p:nvPr/>
        </p:nvSpPr>
        <p:spPr>
          <a:xfrm>
            <a:off x="8317080" y="6462720"/>
            <a:ext cx="4046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2AB70-97E1-40CF-83C3-F58964502E00}" type="slidenum">
              <a:rPr b="0" lang="en-US" sz="1200" spc="-1" strike="noStrike">
                <a:solidFill>
                  <a:srgbClr val="89ad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89ba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619272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ad47"/>
                </a:solidFill>
                <a:latin typeface="Arial"/>
              </a:rPr>
              <a:t>Zakres planów gospodarki odpadami – 1</a:t>
            </a:r>
            <a:endParaRPr b="0" lang="en-US" sz="24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3240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89ba"/>
                </a:solidFill>
                <a:uFillTx/>
                <a:latin typeface="Arial"/>
              </a:rPr>
              <a:t>Główne elementy planu: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analiza aktualnego stanu gospodarki odpadami na obszarze, dla którego jest sporządzany plan,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prognozowane zmiany w zakresie gospodarki odpadami,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cele w zakresie gospodarki odpadami, wraz ze wskazaniem terminów ich osiągnięcia,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określenie kierunków działań w zakresie zapobiegania powstawaniu odpadów oraz kształtowania systemu gospodarki odpadami podejmowanych dla osiągnięcia celów, 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określenie kryteriów rozmieszczenia obiektów przeznaczonych do gospodarowania odpadami oraz mocy przerobowych przyszłych instalacji do przetwarzania odpadów,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505" name="Symbol zastępczy numeru slajdu 4"/>
          <p:cNvSpPr/>
          <p:nvPr/>
        </p:nvSpPr>
        <p:spPr>
          <a:xfrm>
            <a:off x="8317080" y="6462720"/>
            <a:ext cx="4046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4DE11-6999-4374-98AF-B0F7C379DF95}" type="slidenum">
              <a:rPr b="0" lang="en-US" sz="1200" spc="-1" strike="noStrike">
                <a:solidFill>
                  <a:srgbClr val="89ad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89ba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619272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ad47"/>
                </a:solidFill>
                <a:latin typeface="Arial"/>
              </a:rPr>
              <a:t>Zakres planów gospodarki odpadami – 2</a:t>
            </a:r>
            <a:endParaRPr b="0" lang="en-US" sz="24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3240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89ba"/>
                </a:solidFill>
                <a:uFillTx/>
                <a:latin typeface="Arial"/>
              </a:rPr>
              <a:t>Główne elementy planu c.d.: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harmonogram planowanych czynności oraz określenie wykonawców i sposobu finansowania zadań wynikających </a:t>
            </a:r>
            <a:br>
              <a:rPr sz="2200"/>
            </a:b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z przyjętych kierunków działań,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informację o strategicznej ocenie oddziaływania planu gospodarki odpadami na środowisko,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określenie metody monitorowania działań w sposób umożliwiający ocenę stanu realizacji zadań określonych w planie gospodarki odpadami,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streszczenie w języku niespecjalistycznym.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508" name="Symbol zastępczy numeru slajdu 4"/>
          <p:cNvSpPr/>
          <p:nvPr/>
        </p:nvSpPr>
        <p:spPr>
          <a:xfrm>
            <a:off x="8317080" y="6462720"/>
            <a:ext cx="4046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DD4A1-8376-4F27-B25B-A4990F358D37}" type="slidenum">
              <a:rPr b="0" lang="en-US" sz="1200" spc="-1" strike="noStrike">
                <a:solidFill>
                  <a:srgbClr val="89ad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89ba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916000" y="476280"/>
            <a:ext cx="622764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ad47"/>
                </a:solidFill>
                <a:latin typeface="Arial"/>
              </a:rPr>
              <a:t>Akty prawne</a:t>
            </a:r>
            <a:endParaRPr b="0" lang="en-US" sz="28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611280" y="5805360"/>
            <a:ext cx="8075520" cy="2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428840" indent="-51444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9ba"/>
              </a:solidFill>
              <a:latin typeface="Arial"/>
            </a:endParaRPr>
          </a:p>
          <a:p>
            <a:pPr lvl="1" marL="1428840" indent="-514440">
              <a:spcBef>
                <a:spcPts val="499"/>
              </a:spcBef>
              <a:buClr>
                <a:srgbClr val="0089ba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9ba"/>
              </a:solidFill>
              <a:latin typeface="Arial"/>
            </a:endParaRPr>
          </a:p>
          <a:p>
            <a:pPr lvl="1" marL="1428840" indent="-514440">
              <a:spcBef>
                <a:spcPts val="499"/>
              </a:spcBef>
              <a:buClr>
                <a:srgbClr val="0089ba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447" name="Symbol zastępczy numeru slajdu 4"/>
          <p:cNvSpPr/>
          <p:nvPr/>
        </p:nvSpPr>
        <p:spPr>
          <a:xfrm>
            <a:off x="8317080" y="6462720"/>
            <a:ext cx="4046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14040-9EBF-4514-8A53-D6712532DE7C}" type="slidenum">
              <a:rPr b="0" lang="en-US" sz="1200" spc="-1" strike="noStrike">
                <a:solidFill>
                  <a:srgbClr val="89ad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536040" y="1628640"/>
            <a:ext cx="80679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550"/>
              </a:spcBef>
              <a:buClr>
                <a:srgbClr val="0089b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Ustawa z dnia 27 kwietnia 2001 r. – Prawo ochrony środowiska </a:t>
            </a:r>
            <a:br>
              <a:rPr sz="2200"/>
            </a:b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(Dz. U. z 2008 r. Nr 25, poz. 150, z późn. zm.) – „Poś”;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buClr>
                <a:srgbClr val="0089ba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Ustawa z dnia 27 kwietnia 2001 r.  o odpadach </a:t>
            </a:r>
            <a:br>
              <a:rPr sz="2200"/>
            </a:b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(Dz. U. z 2010 r. Nr 185, poz. 1243, z późn. zm.);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3.  Ustawa z dnia 6 grudnia 2006 r. o zasadach prowadzenia polityki rozwoju </a:t>
            </a:r>
            <a:br>
              <a:rPr sz="2200"/>
            </a:b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(Dz. U. z 2009 r. Nr 84, poz. 712, z późn. zm.)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619272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ad47"/>
                </a:solidFill>
                <a:latin typeface="Arial"/>
              </a:rPr>
              <a:t>Dodatkowe elementy wojewódzkich planów gospodarki odpadami</a:t>
            </a:r>
            <a:endParaRPr b="0" lang="en-US" sz="24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324000" y="14130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określenie regionów gospodarki odpadami komunalnymi, </a:t>
            </a:r>
            <a:br>
              <a:rPr sz="2200"/>
            </a:b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wraz ze wskazaniem gmin wchodzących w skład regionu,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wykaz regionalnych instalacji do przetwarzania odpadów komunalnych w poszczególnych regionach gospodarki odpadami komunalnymi oraz instalacji przewidzianych do zastępczej obsługi tych regionów, do czasu uruchomienia regionalnych instalacji do przetwarzania odpadów komunalnych, w przypadku gdy znajdująca się w nich instalacja uległa awarii lub nie może przyjmować odpadów z innych przyczyn,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plan zamykania regionalnych instalacji do przetwarzania odpadów komunalnych niespełniających wymagań ochrony środowiska, których modernizacja nie jest możliwa z przyczyn technicznych lub nie jest uzasadniona z przyczyn ekonomicznych.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511" name="Symbol zastępczy numeru slajdu 4"/>
          <p:cNvSpPr/>
          <p:nvPr/>
        </p:nvSpPr>
        <p:spPr>
          <a:xfrm>
            <a:off x="8317080" y="6462720"/>
            <a:ext cx="4046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EFC8E-2821-4B34-93F3-5DFF2B5E7655}" type="slidenum">
              <a:rPr b="0" lang="en-US" sz="1200" spc="-1" strike="noStrike">
                <a:solidFill>
                  <a:srgbClr val="89ad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89ba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619272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ad47"/>
                </a:solidFill>
                <a:latin typeface="Arial"/>
              </a:rPr>
              <a:t>Fakultatywne elementy </a:t>
            </a:r>
            <a:br>
              <a:rPr sz="2400"/>
            </a:br>
            <a:r>
              <a:rPr b="0" lang="en-US" sz="2400" spc="-1" strike="noStrike">
                <a:solidFill>
                  <a:srgbClr val="89ad47"/>
                </a:solidFill>
                <a:latin typeface="Arial"/>
              </a:rPr>
              <a:t>planów gospodarki odpadami</a:t>
            </a:r>
            <a:endParaRPr b="0" lang="en-US" sz="24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324000" y="14130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organizacja działań związanych z gospodarowaniem odpadami, w tym opis podziału zadań pomiędzy podmioty publiczne i prywatne zajmujące się gospodarowaniem odpadami,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ocena użyteczności i przydatności stosowania instrumentów ekonomicznych i innych instrumentów do rozwiązania problemów związanych z gospodarką odpadami, z uwzględnieniem potrzeby utrzymywania niezakłóconego funkcjonowania rynku wewnętrznego,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kampanie informacyjnych i inne sposoby informowania społeczeństwa lub określonej grupy osób w zakresie gospodarki odpadami.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514" name="Symbol zastępczy numeru slajdu 4"/>
          <p:cNvSpPr/>
          <p:nvPr/>
        </p:nvSpPr>
        <p:spPr>
          <a:xfrm>
            <a:off x="8317080" y="6462720"/>
            <a:ext cx="4046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0A22D-F3AF-4D40-B830-6101112ECF3F}" type="slidenum">
              <a:rPr b="0" lang="en-US" sz="1200" spc="-1" strike="noStrike">
                <a:solidFill>
                  <a:srgbClr val="89ad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89ba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619272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ad47"/>
                </a:solidFill>
                <a:latin typeface="Arial"/>
              </a:rPr>
              <a:t>Hierarchiczność </a:t>
            </a:r>
            <a:br>
              <a:rPr sz="2400"/>
            </a:br>
            <a:r>
              <a:rPr b="0" lang="en-US" sz="2400" spc="-1" strike="noStrike">
                <a:solidFill>
                  <a:srgbClr val="89ad47"/>
                </a:solidFill>
                <a:latin typeface="Arial"/>
              </a:rPr>
              <a:t>dokumentów strategicznych</a:t>
            </a:r>
            <a:endParaRPr b="0" lang="en-US" sz="24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324000" y="14130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plany gospodarki odpadami powinny być zgodne z polityką ekologiczną państwa,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wojewódzki plan gospodarki odpadami powinien być zgodny z krajowym planem gospodarki odpadami i służyć realizacji zawartych w nim celów.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517" name="Symbol zastępczy numeru slajdu 4"/>
          <p:cNvSpPr/>
          <p:nvPr/>
        </p:nvSpPr>
        <p:spPr>
          <a:xfrm>
            <a:off x="8317080" y="6462720"/>
            <a:ext cx="4046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3B5C3-E3A3-43C4-8DA9-CC2433A84EC1}" type="slidenum">
              <a:rPr b="0" lang="en-US" sz="1200" spc="-1" strike="noStrike">
                <a:solidFill>
                  <a:srgbClr val="89ad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89ba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619272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ad47"/>
                </a:solidFill>
                <a:latin typeface="Arial"/>
              </a:rPr>
              <a:t>Kolejność działań przy opracowaniu wojewódzkiego planu gospodarki odpadami</a:t>
            </a:r>
            <a:endParaRPr b="0" lang="en-US" sz="24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324000" y="14130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opracowanie projektu planu,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 </a:t>
            </a:r>
            <a:r>
              <a:rPr b="0" i="1" lang="pl-PL" sz="2200" spc="-1" strike="noStrike">
                <a:solidFill>
                  <a:srgbClr val="0089ba"/>
                </a:solidFill>
                <a:latin typeface="Arial"/>
              </a:rPr>
              <a:t>zapewnienie udziału społeczeństwa,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opiniowanie projektu planu przez organy wykonawcze gmin </a:t>
            </a:r>
            <a:br>
              <a:rPr sz="2200"/>
            </a:b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z obszaru województwa, niebędących członkami związków międzygminnych, oraz organy wykonawcze związków międzygminnych, a w zakresie związanym z ochroną wód – przez właściwego dyrektora regionalnego zarządu gospodarki wodnej (2 miesiące), 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opiniowanie zweryfikowanego projektu planu przez ministra właściwego do spraw środowiska (2 miesiące),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przedłożenie ostatecznej wersji projektu planu sejmikowi województwa,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520" name="Symbol zastępczy numeru slajdu 4"/>
          <p:cNvSpPr/>
          <p:nvPr/>
        </p:nvSpPr>
        <p:spPr>
          <a:xfrm>
            <a:off x="8317080" y="6462720"/>
            <a:ext cx="4046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49239-4FA8-4EA5-9534-2EF838520806}" type="slidenum">
              <a:rPr b="0" lang="en-US" sz="1200" spc="-1" strike="noStrike">
                <a:solidFill>
                  <a:srgbClr val="89ad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89ba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619272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ad47"/>
                </a:solidFill>
                <a:latin typeface="Arial"/>
              </a:rPr>
              <a:t>Kolejność działań przy opracowaniu wojewódzkiego planu gospodarki odpadami c.d.</a:t>
            </a:r>
            <a:endParaRPr b="0" lang="en-US" sz="24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324000" y="14130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uchwalenie planu oraz podjęcie uchwały w sprawie wykonania wojewódzkiego planu gospodarki odpadami przez sejmik województwa,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przekazanie ministrowi właściwemu do spraw ochrony środowiska wojewódzkiego planu gospodarki odpadami </a:t>
            </a:r>
            <a:br>
              <a:rPr sz="2200"/>
            </a:b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w terminie miesiąca od dnia jego uchwalenia.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Termin uchwalenia wojewódzkiego planu gospodarki odpadami zgodnie z nowymi wymaganiami: do dnia 1 lipca 2012 r.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523" name="Symbol zastępczy numeru slajdu 4"/>
          <p:cNvSpPr/>
          <p:nvPr/>
        </p:nvSpPr>
        <p:spPr>
          <a:xfrm>
            <a:off x="8317080" y="6462720"/>
            <a:ext cx="4046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116C8-0A0D-45EB-BF37-2776B6C2E479}" type="slidenum">
              <a:rPr b="0" lang="en-US" sz="1200" spc="-1" strike="noStrike">
                <a:solidFill>
                  <a:srgbClr val="89ad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89ba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619272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ad47"/>
                </a:solidFill>
                <a:latin typeface="Arial"/>
              </a:rPr>
              <a:t>Zawartość uchwały w sprawie wykonania wojewódzkiego planu gospodarki odpadami</a:t>
            </a:r>
            <a:endParaRPr b="0" lang="en-US" sz="24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324000" y="14130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regiony gospodarki odpadami komunalnymi,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regionalne instalacje do przetwarzania odpadów komunalnych w poszczególnych regionach gospodarki odpadami komunalnymi oraz instalacje przewidziane do zastępczej obsługi tych regionów, do czasu uruchomienia regionalnych instalacji do przetwarzania odpadów komunalnych, w przypadku gdy znajdująca się w nich instalacja uległa awarii lub nie może przyjmować odpadów </a:t>
            </a:r>
            <a:br>
              <a:rPr sz="2200"/>
            </a:b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z innych przyczyn,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regionalne instalacje do przetwarzania odpadów komunalnych niespełniające wymagań ochrony środowiska, których modernizacja nie jest możliwa z przyczyn technicznych lub nie jest uzasadniona z przyczyn ekonomicznych.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526" name="Symbol zastępczy numeru slajdu 4"/>
          <p:cNvSpPr/>
          <p:nvPr/>
        </p:nvSpPr>
        <p:spPr>
          <a:xfrm>
            <a:off x="8317080" y="6462720"/>
            <a:ext cx="4046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46417-EDCE-4D41-9662-E81BEB4491B8}" type="slidenum">
              <a:rPr b="0" lang="en-US" sz="1200" spc="-1" strike="noStrike">
                <a:solidFill>
                  <a:srgbClr val="89ad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89ba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619272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ad47"/>
                </a:solidFill>
                <a:latin typeface="Arial"/>
              </a:rPr>
              <a:t>Definicja ustawowa </a:t>
            </a:r>
            <a:br>
              <a:rPr sz="2400"/>
            </a:br>
            <a:r>
              <a:rPr b="0" lang="en-US" sz="2400" spc="-1" strike="noStrike">
                <a:solidFill>
                  <a:srgbClr val="89ad47"/>
                </a:solidFill>
                <a:latin typeface="Arial"/>
              </a:rPr>
              <a:t>regionu gospodarki odpadami</a:t>
            </a:r>
            <a:endParaRPr b="0" lang="en-US" sz="24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324000" y="14130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Określony w wojewódzkim planie gospodarki odpadami obszar liczący co najmniej 150 000 mieszkańców; regionem gospodarki odpadami komunalnymi może być gmina licząca powyżej 500 000 mieszkańców.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89ba"/>
                </a:solidFill>
                <a:latin typeface="Arial"/>
              </a:rPr>
              <a:t>Określenie regionów gospodarki odpadami komunalnymi, </a:t>
            </a:r>
            <a:br>
              <a:rPr sz="2200"/>
            </a:br>
            <a:r>
              <a:rPr b="0" i="1" lang="en-US" sz="2200" spc="-1" strike="noStrike">
                <a:solidFill>
                  <a:srgbClr val="0089ba"/>
                </a:solidFill>
                <a:latin typeface="Arial"/>
              </a:rPr>
              <a:t>wraz ze wskazaniem gmin wchodzących w skład regionu (wymagania ustawowe dla wojewódzkiego planu gospodarki odpadami).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529" name="Symbol zastępczy numeru slajdu 4"/>
          <p:cNvSpPr/>
          <p:nvPr/>
        </p:nvSpPr>
        <p:spPr>
          <a:xfrm>
            <a:off x="8317080" y="6462720"/>
            <a:ext cx="4046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38226-7164-4BE7-8141-8F84031D70A3}" type="slidenum">
              <a:rPr b="0" lang="en-US" sz="1200" spc="-1" strike="noStrike">
                <a:solidFill>
                  <a:srgbClr val="89ad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89ba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2987640" y="476280"/>
            <a:ext cx="557064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ad47"/>
                </a:solidFill>
                <a:latin typeface="Arial"/>
              </a:rPr>
              <a:t>Definicja ustawowa </a:t>
            </a:r>
            <a:br>
              <a:rPr sz="2400"/>
            </a:br>
            <a:r>
              <a:rPr b="0" lang="en-US" sz="2400" spc="-1" strike="noStrike">
                <a:solidFill>
                  <a:srgbClr val="89ad47"/>
                </a:solidFill>
                <a:latin typeface="Arial"/>
              </a:rPr>
              <a:t>regionalnej instalacji do przetwarzania odpadów komunalnych</a:t>
            </a:r>
            <a:endParaRPr b="0" lang="en-US" sz="24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68640" indent="-368640">
              <a:spcBef>
                <a:spcPts val="550"/>
              </a:spcBef>
              <a:buClr>
                <a:srgbClr val="0089ba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Zakład zagospodarowania odpadów </a:t>
            </a:r>
            <a:r>
              <a:rPr b="0" i="1" lang="pl-PL" sz="2200" spc="-1" strike="noStrike">
                <a:solidFill>
                  <a:srgbClr val="0089ba"/>
                </a:solidFill>
                <a:latin typeface="Arial"/>
              </a:rPr>
              <a:t>(Poś)</a:t>
            </a: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 marL="368640" indent="-368640">
              <a:spcBef>
                <a:spcPts val="550"/>
              </a:spcBef>
              <a:buClr>
                <a:srgbClr val="0089ba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o mocy przerobowej wystarczającej do przyjmowania </a:t>
            </a:r>
            <a:br>
              <a:rPr sz="2200"/>
            </a:b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i przetwarzania odpadów z obszaru zamieszkałego przez co najmniej 120 000 mieszkańców, 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 marL="368640" indent="-368640">
              <a:spcBef>
                <a:spcPts val="550"/>
              </a:spcBef>
              <a:buClr>
                <a:srgbClr val="0089ba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spełniający wymagania </a:t>
            </a:r>
            <a:br>
              <a:rPr sz="2200"/>
            </a:br>
            <a:r>
              <a:rPr b="1" lang="pl-PL" sz="2200" spc="-1" strike="noStrike">
                <a:solidFill>
                  <a:srgbClr val="0089ba"/>
                </a:solidFill>
                <a:latin typeface="Arial"/>
              </a:rPr>
              <a:t>(a) </a:t>
            </a: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najlepszej dostępnej techniki lub </a:t>
            </a:r>
            <a:br>
              <a:rPr sz="2200"/>
            </a:br>
            <a:r>
              <a:rPr b="1" lang="pl-PL" sz="2200" spc="-1" strike="noStrike">
                <a:solidFill>
                  <a:srgbClr val="0089ba"/>
                </a:solidFill>
                <a:latin typeface="Arial"/>
              </a:rPr>
              <a:t>(b) </a:t>
            </a: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technologii, o której mowa w art. 143 ustawy z dnia 27 kwietnia 2001 r. – Prawo ochrony środowiska, 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 marL="368640" indent="-368640">
              <a:spcBef>
                <a:spcPts val="550"/>
              </a:spcBef>
              <a:buClr>
                <a:srgbClr val="0089ba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zapewniający: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 marL="368640" indent="-368640"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 </a:t>
            </a:r>
            <a:r>
              <a:rPr b="1" lang="pl-PL" sz="2200" spc="-1" strike="noStrike">
                <a:solidFill>
                  <a:srgbClr val="0089ba"/>
                </a:solidFill>
                <a:latin typeface="Arial"/>
              </a:rPr>
              <a:t>(a)</a:t>
            </a: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 termiczne przekształcanie odpadów lub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 marL="368640" indent="-368640"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 </a:t>
            </a:r>
            <a:r>
              <a:rPr b="1" lang="pl-PL" sz="2200" spc="-1" strike="noStrike">
                <a:solidFill>
                  <a:srgbClr val="0089ba"/>
                </a:solidFill>
                <a:latin typeface="Arial"/>
              </a:rPr>
              <a:t>(b)</a:t>
            </a: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 mechaniczno-biologiczne przetwarzanie zmieszanych odpadów komunalnych i wydzielanie ze zmieszanych odpadów komunalnych frakcji nadających się w całości </a:t>
            </a:r>
            <a:br>
              <a:rPr sz="2200"/>
            </a:b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lub w części do odzysku,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532" name="Symbol zastępczy numeru slajdu 4"/>
          <p:cNvSpPr/>
          <p:nvPr/>
        </p:nvSpPr>
        <p:spPr>
          <a:xfrm>
            <a:off x="8317080" y="6462720"/>
            <a:ext cx="4046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98DE2-2CF1-474E-9E11-D1C5CED091E6}" type="slidenum">
              <a:rPr b="0" lang="en-US" sz="1200" spc="-1" strike="noStrike">
                <a:solidFill>
                  <a:srgbClr val="89ad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89ba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2987640" y="476280"/>
            <a:ext cx="557064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ad47"/>
                </a:solidFill>
                <a:latin typeface="Arial"/>
              </a:rPr>
              <a:t>Definicja ustawowa </a:t>
            </a:r>
            <a:br>
              <a:rPr sz="2400"/>
            </a:br>
            <a:r>
              <a:rPr b="0" lang="en-US" sz="2400" spc="-1" strike="noStrike">
                <a:solidFill>
                  <a:srgbClr val="89ad47"/>
                </a:solidFill>
                <a:latin typeface="Arial"/>
              </a:rPr>
              <a:t>regionalnej instalacji do przetwarzania odpadów komunalnych – c.d.</a:t>
            </a:r>
            <a:endParaRPr b="0" lang="en-US" sz="24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89ba"/>
                </a:solidFill>
                <a:latin typeface="Arial"/>
              </a:rPr>
              <a:t>(c)</a:t>
            </a: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 przetwarzanie selektywnie zebranych odpadów zielonych </a:t>
            </a:r>
            <a:br>
              <a:rPr sz="2200"/>
            </a:b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i innych bioodpadów oraz wytwarzanie z nich produktu </a:t>
            </a:r>
            <a:br>
              <a:rPr sz="2200"/>
            </a:b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o właściwościach nawozowych lub środków wspomagających uprawę roślin, spełniającego wymagania określone w przepisach odrębnych,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89ba"/>
                </a:solidFill>
                <a:latin typeface="Arial"/>
              </a:rPr>
              <a:t>(d)</a:t>
            </a: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 składowanie odpadów powstających w procesie mechaniczno-biologicznego przetwarzania zmieszanych odpadów komunalnych oraz pozostałości z sortowania odpadów komunalnych o pojemności pozwalającej na przyjmowanie przez okres nie krótszy niż 15 lat odpadów w ilości nie mniejszej niż powstająca w instalacji do mechaniczno-biologicznego przetwarzania zmieszanych odpadów komunalnych.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535" name="Symbol zastępczy numeru slajdu 4"/>
          <p:cNvSpPr/>
          <p:nvPr/>
        </p:nvSpPr>
        <p:spPr>
          <a:xfrm>
            <a:off x="8317080" y="6462720"/>
            <a:ext cx="4046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4A355-4107-43EF-9F68-86E7F7BEA66D}" type="slidenum">
              <a:rPr b="0" lang="en-US" sz="1200" spc="-1" strike="noStrike">
                <a:solidFill>
                  <a:srgbClr val="89ad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89ba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987640" y="476280"/>
            <a:ext cx="557064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89ad47"/>
                </a:solidFill>
                <a:latin typeface="Arial"/>
              </a:rPr>
              <a:t>Definicje ustawowe zakładu i instalacji</a:t>
            </a:r>
            <a:br>
              <a:rPr sz="2400"/>
            </a:br>
            <a:r>
              <a:rPr b="0" i="1" lang="pl-PL" sz="2400" spc="-1" strike="noStrike">
                <a:solidFill>
                  <a:srgbClr val="89ad47"/>
                </a:solidFill>
                <a:latin typeface="Arial"/>
              </a:rPr>
              <a:t>(Poś)</a:t>
            </a:r>
            <a:endParaRPr b="0" lang="en-US" sz="24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 u="sng">
                <a:solidFill>
                  <a:srgbClr val="0089ba"/>
                </a:solidFill>
                <a:uFillTx/>
                <a:latin typeface="Arial"/>
              </a:rPr>
              <a:t>Zakład: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Jedna lub kilka instalacji wraz z terenem, do którego prowadzący instalacje posiada tytuł prawny, oraz znajdującymi się na nim urządzeniami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 u="sng">
                <a:solidFill>
                  <a:srgbClr val="0089ba"/>
                </a:solidFill>
                <a:uFillTx/>
                <a:latin typeface="Arial"/>
              </a:rPr>
              <a:t>Instalacja: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stacjonarne urządzenie techniczne,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zespół stacjonarnych urządzeń technicznych powiązanych technologicznie, do których tytułem prawnym dysponuje ten sam podmiot i położonych na terenie jednego zakładu,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budowle niebędące urządzeniami technicznymi ani ich zespołami,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których eksploatacja może spowodować emisję.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538" name="Symbol zastępczy numeru slajdu 4"/>
          <p:cNvSpPr/>
          <p:nvPr/>
        </p:nvSpPr>
        <p:spPr>
          <a:xfrm>
            <a:off x="8317080" y="6462720"/>
            <a:ext cx="4046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0C95E-961F-490E-83ED-BD7AB32A4E4D}" type="slidenum">
              <a:rPr b="0" lang="en-US" sz="1200" spc="-1" strike="noStrike">
                <a:solidFill>
                  <a:srgbClr val="89ad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89ba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916000" y="476280"/>
            <a:ext cx="622764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ad47"/>
                </a:solidFill>
                <a:latin typeface="Arial"/>
              </a:rPr>
              <a:t>„</a:t>
            </a:r>
            <a:r>
              <a:rPr b="0" lang="en-US" sz="2400" spc="-1" strike="noStrike">
                <a:solidFill>
                  <a:srgbClr val="89ad47"/>
                </a:solidFill>
                <a:latin typeface="Arial"/>
              </a:rPr>
              <a:t>Hierarchia” dokumentów strategicznych</a:t>
            </a:r>
            <a:endParaRPr b="0" lang="en-US" sz="24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611280" y="5805360"/>
            <a:ext cx="8075520" cy="2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428840" indent="-51444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9ba"/>
              </a:solidFill>
              <a:latin typeface="Arial"/>
            </a:endParaRPr>
          </a:p>
          <a:p>
            <a:pPr lvl="1" marL="1428840" indent="-514440">
              <a:spcBef>
                <a:spcPts val="499"/>
              </a:spcBef>
              <a:buClr>
                <a:srgbClr val="0089ba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9ba"/>
              </a:solidFill>
              <a:latin typeface="Arial"/>
            </a:endParaRPr>
          </a:p>
          <a:p>
            <a:pPr lvl="1" marL="1428840" indent="-514440">
              <a:spcBef>
                <a:spcPts val="499"/>
              </a:spcBef>
              <a:buClr>
                <a:srgbClr val="0089ba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451" name="Symbol zastępczy numeru slajdu 4"/>
          <p:cNvSpPr/>
          <p:nvPr/>
        </p:nvSpPr>
        <p:spPr>
          <a:xfrm>
            <a:off x="8317080" y="6462720"/>
            <a:ext cx="4046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75655-1113-4331-B19F-D3D5C48F495E}" type="slidenum">
              <a:rPr b="0" lang="en-US" sz="1200" spc="-1" strike="noStrike">
                <a:solidFill>
                  <a:srgbClr val="89ad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536040" y="1628280"/>
            <a:ext cx="80679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Długookresowa Strategia Rozwoju Kraju 2030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Średniookresowa Strategia Rozwoju Kraju 2020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Strategia Bezpieczeństwo Energetyczne i Środowisko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             </a:t>
            </a: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Programy rozwoju i programy operacyjne (dokumenty </a:t>
            </a:r>
            <a:br>
              <a:rPr sz="2200"/>
            </a:b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             o charakterze operacyjno-wdrożeniowym)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453" name="Strzałka w dół 2"/>
          <p:cNvSpPr/>
          <p:nvPr/>
        </p:nvSpPr>
        <p:spPr>
          <a:xfrm>
            <a:off x="2050920" y="2205000"/>
            <a:ext cx="432000" cy="432000"/>
          </a:xfrm>
          <a:prstGeom prst="downArrow">
            <a:avLst>
              <a:gd name="adj1" fmla="val 50000"/>
              <a:gd name="adj2" fmla="val 41727"/>
            </a:avLst>
          </a:prstGeom>
          <a:solidFill>
            <a:srgbClr val="89ad47"/>
          </a:solidFill>
          <a:ln w="25560">
            <a:solidFill>
              <a:srgbClr val="929e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454" name="Strzałka w dół 2"/>
          <p:cNvSpPr/>
          <p:nvPr/>
        </p:nvSpPr>
        <p:spPr>
          <a:xfrm>
            <a:off x="3419640" y="3500280"/>
            <a:ext cx="431640" cy="432000"/>
          </a:xfrm>
          <a:prstGeom prst="downArrow">
            <a:avLst>
              <a:gd name="adj1" fmla="val 50000"/>
              <a:gd name="adj2" fmla="val 41761"/>
            </a:avLst>
          </a:prstGeom>
          <a:solidFill>
            <a:srgbClr val="89ad47"/>
          </a:solidFill>
          <a:ln w="25560">
            <a:solidFill>
              <a:srgbClr val="929e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455" name="Strzałka w dół 2"/>
          <p:cNvSpPr/>
          <p:nvPr/>
        </p:nvSpPr>
        <p:spPr>
          <a:xfrm>
            <a:off x="4859280" y="4653000"/>
            <a:ext cx="432000" cy="431640"/>
          </a:xfrm>
          <a:prstGeom prst="downArrow">
            <a:avLst>
              <a:gd name="adj1" fmla="val 50000"/>
              <a:gd name="adj2" fmla="val 41727"/>
            </a:avLst>
          </a:prstGeom>
          <a:solidFill>
            <a:srgbClr val="89ad47"/>
          </a:solidFill>
          <a:ln w="25560">
            <a:solidFill>
              <a:srgbClr val="929e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9ba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987640" y="476280"/>
            <a:ext cx="557064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89ad47"/>
                </a:solidFill>
                <a:latin typeface="Arial"/>
              </a:rPr>
              <a:t>Definicje ustawowe urządzenia </a:t>
            </a:r>
            <a:br>
              <a:rPr sz="2400"/>
            </a:br>
            <a:r>
              <a:rPr b="0" lang="pl-PL" sz="2400" spc="-1" strike="noStrike">
                <a:solidFill>
                  <a:srgbClr val="89ad47"/>
                </a:solidFill>
                <a:latin typeface="Arial"/>
              </a:rPr>
              <a:t>i tytułu prawnego </a:t>
            </a:r>
            <a:r>
              <a:rPr b="0" i="1" lang="pl-PL" sz="2400" spc="-1" strike="noStrike">
                <a:solidFill>
                  <a:srgbClr val="89ad47"/>
                </a:solidFill>
                <a:latin typeface="Arial"/>
              </a:rPr>
              <a:t>(Poś)</a:t>
            </a:r>
            <a:endParaRPr b="0" lang="en-US" sz="24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89ba"/>
                </a:solidFill>
                <a:uFillTx/>
                <a:latin typeface="Arial"/>
              </a:rPr>
              <a:t>Urządzenie: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Niestacjonarne urządzenie techniczne, w tym środki transportu. 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89ba"/>
                </a:solidFill>
                <a:uFillTx/>
                <a:latin typeface="Arial"/>
              </a:rPr>
              <a:t>Tytuł prawny: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Prawo własności, użytkowanie wieczyste, trwały zarząd, ograniczone prawo rzeczowe albo stosunek zobowiązaniowy.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541" name="Symbol zastępczy numeru slajdu 4"/>
          <p:cNvSpPr/>
          <p:nvPr/>
        </p:nvSpPr>
        <p:spPr>
          <a:xfrm>
            <a:off x="8317080" y="6462720"/>
            <a:ext cx="4046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D53AD-205E-4904-96A9-A8C70268833D}" type="slidenum">
              <a:rPr b="0" lang="en-US" sz="1200" spc="-1" strike="noStrike">
                <a:solidFill>
                  <a:srgbClr val="89ad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89ba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2987640" y="476280"/>
            <a:ext cx="557064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ad47"/>
                </a:solidFill>
                <a:latin typeface="Arial"/>
              </a:rPr>
              <a:t>Krajowy plan gospodarki odpadami</a:t>
            </a:r>
            <a:endParaRPr b="0" lang="en-US" sz="24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39528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uchwała Nr 219 Rady Ministrów z dnia 29 października 2002 r. w sprawie krajowego planu gospodarki odpadami </a:t>
            </a:r>
            <a:br>
              <a:rPr sz="2200"/>
            </a:b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(M.P. z 2003 r. Nr 11, poz. 159) – „KPGO” (okres obowiązywania: 29 października 2002 r. – 31 grudnia 2006 r.),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uchwała Rady Ministrów Nr 233 z dnia 29 grudnia 2006 r. </a:t>
            </a:r>
            <a:br>
              <a:rPr sz="2200"/>
            </a:b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w sprawie „Krajowego planu gospodarki odpadami 2010” </a:t>
            </a:r>
            <a:br>
              <a:rPr sz="2200"/>
            </a:b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(M.P. Nr 90, poz. 946) – „Kpgo 2010” (okres obowiązywania: </a:t>
            </a:r>
            <a:br>
              <a:rPr sz="2200"/>
            </a:b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1 stycznia 2007 – 31 grudnia 2010),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uchwała Nr 217 Rady Ministrów z dnia 24 grudnia 2010 r. </a:t>
            </a:r>
            <a:br>
              <a:rPr sz="2200"/>
            </a:b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w sprawie „Krajowego planu gospodarki odpadami 2014” </a:t>
            </a:r>
            <a:br>
              <a:rPr sz="2200"/>
            </a:b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(M. P. Nr 101, poz. 1183) – „Kpgo 2014” (okres obowiązywania: </a:t>
            </a:r>
            <a:br>
              <a:rPr sz="2200"/>
            </a:b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od dnia 1 stycznia 2011).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544" name="Symbol zastępczy numeru slajdu 4"/>
          <p:cNvSpPr/>
          <p:nvPr/>
        </p:nvSpPr>
        <p:spPr>
          <a:xfrm>
            <a:off x="8317080" y="6462720"/>
            <a:ext cx="4046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F59BA-E088-4A3D-AA9B-C925FB253375}" type="slidenum">
              <a:rPr b="0" lang="en-US" sz="1200" spc="-1" strike="noStrike">
                <a:solidFill>
                  <a:srgbClr val="89ad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89ba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987640" y="476280"/>
            <a:ext cx="557064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ad47"/>
                </a:solidFill>
                <a:latin typeface="Arial"/>
              </a:rPr>
              <a:t>Horyzont czasowy krajowego planu gospodarki odpadami</a:t>
            </a:r>
            <a:endParaRPr b="0" lang="en-US" sz="28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39528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89ba"/>
                </a:solidFill>
                <a:uFillTx/>
                <a:latin typeface="Arial"/>
              </a:rPr>
              <a:t>Dotychczas: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szczegółowo: 4 lata,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perspektywicznie: kolejnych 8 lat.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89ba"/>
                </a:solidFill>
                <a:uFillTx/>
                <a:latin typeface="Arial"/>
              </a:rPr>
              <a:t>Według nowych wymagań: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szczegółowo: 6 lat,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perspektywicznie: kolejnych 6 lat.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547" name="Symbol zastępczy numeru slajdu 4"/>
          <p:cNvSpPr/>
          <p:nvPr/>
        </p:nvSpPr>
        <p:spPr>
          <a:xfrm>
            <a:off x="8317080" y="6462720"/>
            <a:ext cx="4046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CC7F7-8E05-4494-AB53-8F6E94FCE9EB}" type="slidenum">
              <a:rPr b="0" lang="en-US" sz="1200" spc="-1" strike="noStrike">
                <a:solidFill>
                  <a:srgbClr val="89ad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89ba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2987640" y="476280"/>
            <a:ext cx="557064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89ad47"/>
                </a:solidFill>
                <a:latin typeface="Arial"/>
              </a:rPr>
              <a:t>Zadania wynikające z Kpgo 2014 – 1</a:t>
            </a:r>
            <a:endParaRPr b="0" lang="en-US" sz="24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 u="sng">
                <a:solidFill>
                  <a:srgbClr val="0089ba"/>
                </a:solidFill>
                <a:uFillTx/>
                <a:latin typeface="Arial"/>
              </a:rPr>
              <a:t>Dla ministerstw: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utworzenie i uruchomienie Bazy danych o produktach, opakowaniach i gospodarce odpadami (BDO),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koordynacja i wsparcie realizacji prac naukowo-badawczych </a:t>
            </a:r>
            <a:br>
              <a:rPr sz="2200"/>
            </a:b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w zakresie gospodarki odpadami,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przygotowanie ekspertyzy dotyczącej analizy kosztów budowy, eksploatacji i rekultywacji składowiska odpadów </a:t>
            </a:r>
            <a:br>
              <a:rPr sz="2200"/>
            </a:b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w kontekście cen za przyjmowanie odpadów do składowania,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przeprowadzenie procesu legislacyjnego wydania rozporządzenia w sprawie określenie stawek opłat za składowanie na podstawie upoważnia zawartego w ustawie </a:t>
            </a:r>
            <a:br>
              <a:rPr sz="2200"/>
            </a:b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z dnia 27 kwietnia 2001 r. - Prawo ochrony środowiska,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550" name="Symbol zastępczy numeru slajdu 4"/>
          <p:cNvSpPr/>
          <p:nvPr/>
        </p:nvSpPr>
        <p:spPr>
          <a:xfrm>
            <a:off x="8317080" y="6462720"/>
            <a:ext cx="4046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69B63-8377-42FC-BFA1-EE07BE0E7670}" type="slidenum">
              <a:rPr b="0" lang="en-US" sz="1200" spc="-1" strike="noStrike">
                <a:solidFill>
                  <a:srgbClr val="89ad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89ba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987640" y="476280"/>
            <a:ext cx="557064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89ad47"/>
                </a:solidFill>
                <a:latin typeface="Arial"/>
              </a:rPr>
              <a:t>Zadania wynikające z Kpgo 2014 – 2</a:t>
            </a:r>
            <a:endParaRPr b="0" lang="en-US" sz="24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89ba"/>
                </a:solidFill>
                <a:uFillTx/>
                <a:latin typeface="Arial"/>
              </a:rPr>
              <a:t>Dla ministerstw – c.d.: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przeprowadzenie procesu legislacyjnego wydania rozporządzeń na podstawie upoważnień zawartych w nowej ustawie o odpadach,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zakończenie procesu legislacyjnego dotyczącego ustawy </a:t>
            </a:r>
            <a:br>
              <a:rPr sz="2200"/>
            </a:b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o gospodarce opakowaniami i odpadami opakowaniowymi – pełna transpozycja dyrektywy 94/62/WE Parlamentu Europejskiego i Rady z dnia 20 grudnia 1994 r. w sprawie opakowań i odpadów opakowaniowych,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przeprowadzenie procesu legislacyjnego wydania rozporządzeń na podstawie upoważnień zawartych w ustawie </a:t>
            </a:r>
            <a:br>
              <a:rPr sz="2200"/>
            </a:b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o gospodarce opakowaniami i odpadami opakowaniowymi, 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553" name="Symbol zastępczy numeru slajdu 4"/>
          <p:cNvSpPr/>
          <p:nvPr/>
        </p:nvSpPr>
        <p:spPr>
          <a:xfrm>
            <a:off x="8317080" y="6462720"/>
            <a:ext cx="4046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63FA1-A36A-4947-98E4-6EA0B9A35407}" type="slidenum">
              <a:rPr b="0" lang="en-US" sz="1200" spc="-1" strike="noStrike">
                <a:solidFill>
                  <a:srgbClr val="89ad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89ba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987640" y="476280"/>
            <a:ext cx="557064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89ad47"/>
                </a:solidFill>
                <a:latin typeface="Arial"/>
              </a:rPr>
              <a:t>Zadania wynikające z Kpgo 2014 – 3</a:t>
            </a:r>
            <a:endParaRPr b="0" lang="en-US" sz="24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 u="sng">
                <a:solidFill>
                  <a:srgbClr val="0089ba"/>
                </a:solidFill>
                <a:uFillTx/>
                <a:latin typeface="Arial"/>
              </a:rPr>
              <a:t>Dla ministerstw – c.d.: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przeprowadzenie procesu legislacyjnego dotyczącego nowelizacji ustawy o zużytym sprzęcie elektrycznym </a:t>
            </a:r>
            <a:br>
              <a:rPr sz="2200"/>
            </a:b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i elektronicznym </a:t>
            </a:r>
            <a:r>
              <a:rPr b="0" i="1" lang="pl-PL" sz="2200" spc="-1" strike="noStrike">
                <a:solidFill>
                  <a:srgbClr val="0089ba"/>
                </a:solidFill>
                <a:latin typeface="Arial"/>
              </a:rPr>
              <a:t>(po wejściu w życie nowelizacji dyrektywy 2002/96/WE,</a:t>
            </a: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 </a:t>
            </a:r>
            <a:r>
              <a:rPr b="0" i="1" lang="pl-PL" sz="2200" spc="-1" strike="noStrike">
                <a:solidFill>
                  <a:srgbClr val="0089ba"/>
                </a:solidFill>
                <a:latin typeface="Arial"/>
              </a:rPr>
              <a:t>Parlamentu Europejskiego i Rady z dnia 27 stycznia 2003 r. w sprawie zużytego sprzętu elektrotechnicznego i elektronicznego (WEEE)</a:t>
            </a: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,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przeprowadzenie ogólnopolskiej kampanii informacyjno-edukacyjnej na temat postępowania z odpadami </a:t>
            </a:r>
            <a:br>
              <a:rPr sz="2200"/>
            </a:b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w gospodarstwach domowych,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uzupełnienie i weryfikacja danych w bazie danych </a:t>
            </a:r>
            <a:br>
              <a:rPr sz="2200"/>
            </a:b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o pojazdach wprowadzanych na rynek - baza CEP, jako niezbędnego narzędzia do ograniczenia szarej strefy i uzyskania wiarygodnych danych o pojazdach wycofanych z eksploatacji,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556" name="Symbol zastępczy numeru slajdu 4"/>
          <p:cNvSpPr/>
          <p:nvPr/>
        </p:nvSpPr>
        <p:spPr>
          <a:xfrm>
            <a:off x="8317080" y="6462720"/>
            <a:ext cx="4046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765A6-4A7E-4CEB-A40E-2861642E1DFA}" type="slidenum">
              <a:rPr b="0" lang="en-US" sz="1200" spc="-1" strike="noStrike">
                <a:solidFill>
                  <a:srgbClr val="89ad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89ba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2987640" y="476280"/>
            <a:ext cx="557064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89ad47"/>
                </a:solidFill>
                <a:latin typeface="Arial"/>
              </a:rPr>
              <a:t>Zadania wynikające z Kpgo 2014 – 4</a:t>
            </a:r>
            <a:endParaRPr b="0" lang="en-US" sz="24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 u="sng">
                <a:solidFill>
                  <a:srgbClr val="0089ba"/>
                </a:solidFill>
                <a:uFillTx/>
                <a:latin typeface="Arial"/>
              </a:rPr>
              <a:t>Dla ministerstw – c.d.: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opracowanie planu zagospodarowania odpadów z rozlewów olejowych powstałych w wyniku wypadków morskich,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zakończenie procesu legislacyjnego – wydanie rozporządzeń wykonawczych do ustawy z dnia 10 lipca 2008 r. o odpadach wydobywczych.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559" name="Symbol zastępczy numeru slajdu 4"/>
          <p:cNvSpPr/>
          <p:nvPr/>
        </p:nvSpPr>
        <p:spPr>
          <a:xfrm>
            <a:off x="8317080" y="6462720"/>
            <a:ext cx="4046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3E598-796F-4014-8902-5E2E3DC1555D}" type="slidenum">
              <a:rPr b="0" lang="en-US" sz="1200" spc="-1" strike="noStrike">
                <a:solidFill>
                  <a:srgbClr val="89ad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89ba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2987640" y="476280"/>
            <a:ext cx="557064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89ad47"/>
                </a:solidFill>
                <a:latin typeface="Arial"/>
              </a:rPr>
              <a:t>Zadania wynikające z Kpgo 2014 – 5</a:t>
            </a:r>
            <a:endParaRPr b="0" lang="en-US" sz="24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89ba"/>
                </a:solidFill>
                <a:uFillTx/>
                <a:latin typeface="Arial"/>
              </a:rPr>
              <a:t>Dla Inspekcji Ochrony Środowiska: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utworzenie bazy danych o rozmieszczeniu eksploatowanych </a:t>
            </a:r>
            <a:br>
              <a:rPr sz="2200"/>
            </a:b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i zamkniętych składowisk odpadów, w tym o składowaniu odpadów zawierających azbest na składowiskach przeznaczonych wyłącznie do składowania azbestu lub wydzielonych części składowisk,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przeprowadzenie kontroli sprawdzających dostosowanie składowisk odpadów innych niż niebezpieczne i obojętne, na których są składowane odpady komunalne do wszystkich wymogów dyrektywy</a:t>
            </a:r>
            <a:r>
              <a:rPr b="0" i="1" lang="en-US" sz="2200" spc="-1" strike="noStrike">
                <a:solidFill>
                  <a:srgbClr val="0089ba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Rady 1999/31/WE z dnia 26 kwietnia 1999 r. w sprawie składowania odpadów,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562" name="Symbol zastępczy numeru slajdu 4"/>
          <p:cNvSpPr/>
          <p:nvPr/>
        </p:nvSpPr>
        <p:spPr>
          <a:xfrm>
            <a:off x="8317080" y="6462720"/>
            <a:ext cx="4046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DB9C4-E3E9-413A-84E3-C66F31C15003}" type="slidenum">
              <a:rPr b="0" lang="en-US" sz="1200" spc="-1" strike="noStrike">
                <a:solidFill>
                  <a:srgbClr val="89ad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89ba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987640" y="476280"/>
            <a:ext cx="557064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89ad47"/>
                </a:solidFill>
                <a:latin typeface="Arial"/>
              </a:rPr>
              <a:t>Zadania wynikające z Kpgo 2014 – 6</a:t>
            </a:r>
            <a:endParaRPr b="0" lang="en-US" sz="24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89ba"/>
                </a:solidFill>
                <a:uFillTx/>
                <a:latin typeface="Arial"/>
              </a:rPr>
              <a:t>Dla Inspekcji Ochrony Środowiska – c.d.: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przeprowadzenie kontroli przedsiębiorców w celu oceny realizacji zadania ujętego w </a:t>
            </a:r>
            <a:r>
              <a:rPr b="0" i="1" lang="en-US" sz="2200" spc="-1" strike="noStrike">
                <a:solidFill>
                  <a:srgbClr val="0089ba"/>
                </a:solidFill>
                <a:latin typeface="Arial"/>
              </a:rPr>
              <a:t>Krajowym planie gospodarki odpadami 2010</a:t>
            </a: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 „Zaprzestanie użytkowania instalacji i urządzeń zawierających PCB; dekontaminacja i unieszkodliwianie PCB” przewidywanego do wykonania w latach 2007 – 2010,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prowadzenie kontroli likwidacji mogilników w celu oceny realizacji zadania ujętego w </a:t>
            </a:r>
            <a:r>
              <a:rPr b="0" i="1" lang="en-US" sz="2200" spc="-1" strike="noStrike">
                <a:solidFill>
                  <a:srgbClr val="0089ba"/>
                </a:solidFill>
                <a:latin typeface="Arial"/>
              </a:rPr>
              <a:t>Krajowym planie gospodarki odpadami 2010</a:t>
            </a: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 „Likwidacja magazynów i mogilników środków chemicznych ochrony roślin” przewidywanego do wykonania do 2010 r.,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565" name="Symbol zastępczy numeru slajdu 4"/>
          <p:cNvSpPr/>
          <p:nvPr/>
        </p:nvSpPr>
        <p:spPr>
          <a:xfrm>
            <a:off x="8317080" y="6462720"/>
            <a:ext cx="4046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75F8B-4019-4F2C-B0F2-987FC2E2604D}" type="slidenum">
              <a:rPr b="0" lang="en-US" sz="1200" spc="-1" strike="noStrike">
                <a:solidFill>
                  <a:srgbClr val="89ad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89ba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987640" y="476280"/>
            <a:ext cx="557064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89ad47"/>
                </a:solidFill>
                <a:latin typeface="Arial"/>
              </a:rPr>
              <a:t>Zadania wynikające z Kpgo 2014 – 7</a:t>
            </a:r>
            <a:endParaRPr b="0" lang="en-US" sz="24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89ba"/>
                </a:solidFill>
                <a:uFillTx/>
                <a:latin typeface="Arial"/>
              </a:rPr>
              <a:t>Dla Inspekcji Ochrony Środowiska – c.d.: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sporządzanie pierwszego spisu zamkniętych obiektów unieszkodliwiania odpadów wydobywczych oraz opuszczonych obiektów unieszkodliwiania odpadów wydobywczych, </a:t>
            </a:r>
            <a:br>
              <a:rPr sz="2200"/>
            </a:b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a następnie jego okresowa aktualizacja ,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prowadzenie kontroli przestrzegania przepisów o gospodarce opakowaniami i odpadami opakowaniowymi,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prowadzenie kontroli w zakresie zagospodarowania osadów ściekowych.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568" name="Symbol zastępczy numeru slajdu 4"/>
          <p:cNvSpPr/>
          <p:nvPr/>
        </p:nvSpPr>
        <p:spPr>
          <a:xfrm>
            <a:off x="8317080" y="6462720"/>
            <a:ext cx="4046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D9012-146F-43CF-BD16-629D5BEEDF96}" type="slidenum">
              <a:rPr b="0" lang="en-US" sz="1200" spc="-1" strike="noStrike">
                <a:solidFill>
                  <a:srgbClr val="89ad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89ba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916000" y="476280"/>
            <a:ext cx="622764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ad47"/>
                </a:solidFill>
                <a:latin typeface="Arial"/>
              </a:rPr>
              <a:t>„</a:t>
            </a:r>
            <a:r>
              <a:rPr b="0" lang="en-US" sz="2400" spc="-1" strike="noStrike">
                <a:solidFill>
                  <a:srgbClr val="89ad47"/>
                </a:solidFill>
                <a:latin typeface="Arial"/>
              </a:rPr>
              <a:t>Hierarchia” dokumentów strategicznych</a:t>
            </a:r>
            <a:endParaRPr b="0" lang="en-US" sz="24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611280" y="5805360"/>
            <a:ext cx="8075520" cy="2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428840" indent="-51444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9ba"/>
              </a:solidFill>
              <a:latin typeface="Arial"/>
            </a:endParaRPr>
          </a:p>
          <a:p>
            <a:pPr lvl="1" marL="1428840" indent="-514440">
              <a:spcBef>
                <a:spcPts val="499"/>
              </a:spcBef>
              <a:buClr>
                <a:srgbClr val="0089ba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9ba"/>
              </a:solidFill>
              <a:latin typeface="Arial"/>
            </a:endParaRPr>
          </a:p>
          <a:p>
            <a:pPr lvl="1" marL="1428840" indent="-514440">
              <a:spcBef>
                <a:spcPts val="499"/>
              </a:spcBef>
              <a:buClr>
                <a:srgbClr val="0089ba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458" name="Symbol zastępczy numeru slajdu 4"/>
          <p:cNvSpPr/>
          <p:nvPr/>
        </p:nvSpPr>
        <p:spPr>
          <a:xfrm>
            <a:off x="8317080" y="6462720"/>
            <a:ext cx="4046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22CA0-B940-4039-87B4-3D0F0B1DFBFB}" type="slidenum">
              <a:rPr b="0" lang="en-US" sz="1200" spc="-1" strike="noStrike">
                <a:solidFill>
                  <a:srgbClr val="89ad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536040" y="1628280"/>
            <a:ext cx="80679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Polityka ekologiczna państwa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Krajowy plan gospodarki odpadami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       </a:t>
            </a: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Wojewódzki plan gospodarki odpadami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            </a:t>
            </a:r>
            <a:r>
              <a:rPr b="0" i="1" lang="en-US" sz="2200" spc="-1" strike="noStrike">
                <a:solidFill>
                  <a:srgbClr val="0089ba"/>
                </a:solidFill>
                <a:latin typeface="Arial"/>
              </a:rPr>
              <a:t>Powiatowy plan gospodarki odpadami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                      </a:t>
            </a:r>
            <a:r>
              <a:rPr b="0" i="1" lang="en-US" sz="2200" spc="-1" strike="noStrike">
                <a:solidFill>
                  <a:srgbClr val="0089ba"/>
                </a:solidFill>
                <a:latin typeface="Arial"/>
              </a:rPr>
              <a:t>Gminny plan gospodarki odpadami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460" name="Strzałka w dół 2"/>
          <p:cNvSpPr/>
          <p:nvPr/>
        </p:nvSpPr>
        <p:spPr>
          <a:xfrm>
            <a:off x="1692360" y="2060640"/>
            <a:ext cx="431640" cy="431640"/>
          </a:xfrm>
          <a:prstGeom prst="downArrow">
            <a:avLst>
              <a:gd name="adj1" fmla="val 50000"/>
              <a:gd name="adj2" fmla="val 41727"/>
            </a:avLst>
          </a:prstGeom>
          <a:solidFill>
            <a:srgbClr val="89ad47"/>
          </a:solidFill>
          <a:ln w="25560">
            <a:solidFill>
              <a:srgbClr val="929e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461" name="Strzałka w dół 2"/>
          <p:cNvSpPr/>
          <p:nvPr/>
        </p:nvSpPr>
        <p:spPr>
          <a:xfrm>
            <a:off x="2843280" y="2924280"/>
            <a:ext cx="431640" cy="431640"/>
          </a:xfrm>
          <a:prstGeom prst="downArrow">
            <a:avLst>
              <a:gd name="adj1" fmla="val 50000"/>
              <a:gd name="adj2" fmla="val 41727"/>
            </a:avLst>
          </a:prstGeom>
          <a:solidFill>
            <a:srgbClr val="89ad47"/>
          </a:solidFill>
          <a:ln w="25560">
            <a:solidFill>
              <a:srgbClr val="929e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462" name="Strzałka w dół 2"/>
          <p:cNvSpPr/>
          <p:nvPr/>
        </p:nvSpPr>
        <p:spPr>
          <a:xfrm>
            <a:off x="3851280" y="3716280"/>
            <a:ext cx="431640" cy="432000"/>
          </a:xfrm>
          <a:prstGeom prst="downArrow">
            <a:avLst>
              <a:gd name="adj1" fmla="val 50000"/>
              <a:gd name="adj2" fmla="val 41761"/>
            </a:avLst>
          </a:prstGeom>
          <a:solidFill>
            <a:srgbClr val="89ad47"/>
          </a:solidFill>
          <a:ln w="25560">
            <a:solidFill>
              <a:srgbClr val="929e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463" name="Strzałka w dół 2"/>
          <p:cNvSpPr/>
          <p:nvPr/>
        </p:nvSpPr>
        <p:spPr>
          <a:xfrm>
            <a:off x="4716360" y="4508640"/>
            <a:ext cx="432000" cy="431640"/>
          </a:xfrm>
          <a:prstGeom prst="downArrow">
            <a:avLst>
              <a:gd name="adj1" fmla="val 50000"/>
              <a:gd name="adj2" fmla="val 41727"/>
            </a:avLst>
          </a:prstGeom>
          <a:solidFill>
            <a:srgbClr val="89ad47"/>
          </a:solidFill>
          <a:ln w="25560">
            <a:solidFill>
              <a:srgbClr val="929e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9ba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2987640" y="476280"/>
            <a:ext cx="557064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89ad47"/>
                </a:solidFill>
                <a:latin typeface="Arial"/>
              </a:rPr>
              <a:t>Zadania wynikające z Kpgo 2014 – 8</a:t>
            </a:r>
            <a:endParaRPr b="0" lang="en-US" sz="24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 u="sng">
                <a:solidFill>
                  <a:srgbClr val="0089ba"/>
                </a:solidFill>
                <a:uFillTx/>
                <a:latin typeface="Arial"/>
              </a:rPr>
              <a:t>Dla Inspekcji Ochrony Środowiska i innych organów kontrolnych: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prowadzenie kontroli organizacji odzysku, podmiotów zbierających oraz zakładów przetwarzania zużytego sprzętu elektrycznego i elektronicznego oraz zakładów przetwarzania  baterii i akumulatorów, 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prowadzenie kontroli stacji demontażu pojazdów wycofanych z eksploatacji, ze szczególnym uwzględnieniem wymogów, określonych w ustawie z dnia 22 stycznia 2010 r. o zmianie ustawy o odpadach oraz niektórych innych ustaw,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prowadzenie kontroli obiektów unieszkodliwiania odpadów wydobywczych.  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571" name="Symbol zastępczy numeru slajdu 4"/>
          <p:cNvSpPr/>
          <p:nvPr/>
        </p:nvSpPr>
        <p:spPr>
          <a:xfrm>
            <a:off x="8317080" y="6462720"/>
            <a:ext cx="4046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B0EB5-B238-41A9-A056-D7DD0C95CE2D}" type="slidenum">
              <a:rPr b="0" lang="en-US" sz="1200" spc="-1" strike="noStrike">
                <a:solidFill>
                  <a:srgbClr val="89ad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89ba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987640" y="476280"/>
            <a:ext cx="557064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89ad47"/>
                </a:solidFill>
                <a:latin typeface="Arial"/>
              </a:rPr>
              <a:t>Zadania wynikające z Kpgo 2014 – 9</a:t>
            </a:r>
            <a:endParaRPr b="0" lang="en-US" sz="24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 u="sng">
                <a:solidFill>
                  <a:srgbClr val="0089ba"/>
                </a:solidFill>
                <a:uFillTx/>
                <a:latin typeface="Arial"/>
              </a:rPr>
              <a:t>Dla funduszy ochrony środowiska i gospodarki wodnej: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umieszczanie na listach przedsięwzięć priorytetowych Narodowego Funduszu Ochrony Środowiska i Gospodarki Wodnej oraz wojewódzkich funduszy ochrony środowiska </a:t>
            </a:r>
            <a:br>
              <a:rPr sz="2200"/>
            </a:b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i gospodarki wodnej  zadań związanych z budową </a:t>
            </a:r>
            <a:br>
              <a:rPr sz="2200"/>
            </a:b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i modernizacją instalacji do zagospodarowania odpadów oraz zadań związanych z zamykaniem i rekultywacją składowisk odpadów komunalnych, 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umieszczanie na listach przedsięwzięć priorytetowych NFOŚiGW zadań związanych z realizacją rekultywacji terenów zanieczyszczonych i zdegradowanych składowaniem niebezpiecznych odpadów przemysłowych.  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574" name="Symbol zastępczy numeru slajdu 4"/>
          <p:cNvSpPr/>
          <p:nvPr/>
        </p:nvSpPr>
        <p:spPr>
          <a:xfrm>
            <a:off x="8317080" y="6462720"/>
            <a:ext cx="4046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4E0AE-8097-4701-BFC5-5F07890CA02B}" type="slidenum">
              <a:rPr b="0" lang="en-US" sz="1200" spc="-1" strike="noStrike">
                <a:solidFill>
                  <a:srgbClr val="89ad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89ba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987640" y="476280"/>
            <a:ext cx="557064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89ad47"/>
                </a:solidFill>
                <a:latin typeface="Arial"/>
              </a:rPr>
              <a:t>Zadania wynikające z Kpgo 2014 – 10</a:t>
            </a:r>
            <a:endParaRPr b="0" lang="en-US" sz="24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 u="sng">
                <a:solidFill>
                  <a:srgbClr val="0089ba"/>
                </a:solidFill>
                <a:uFillTx/>
                <a:latin typeface="Arial"/>
              </a:rPr>
              <a:t>Dla urzędów administracji publicznej i przedsiębiorców: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uwzględnianie w przetargach publicznych, poprzez zapisy </a:t>
            </a:r>
            <a:br>
              <a:rPr sz="2200"/>
            </a:b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w specyfikacji istotnych warunków zamówienia, zakupów wyrobów zawierających materiały lub substancje pochodzące </a:t>
            </a:r>
            <a:br>
              <a:rPr sz="2200"/>
            </a:b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z recyklingu odpadów; włączanie do procedur zamówień publicznych kryteriów, związanych z ochroną środowiska </a:t>
            </a:r>
            <a:br>
              <a:rPr sz="2200"/>
            </a:b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i zapobieganiem powstawaniu odpadów, przy czym w przypadku resortu Obrony Narodowej tylko w obszarach niemających bezpośredniego wpływu na zdolność bojową Sił Zbrojnych RP, </a:t>
            </a:r>
            <a:br>
              <a:rPr sz="2200"/>
            </a:b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z pełnym uwzględnieniem obowiązującego prawodawstwa ochrony środowiska.  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577" name="Symbol zastępczy numeru slajdu 4"/>
          <p:cNvSpPr/>
          <p:nvPr/>
        </p:nvSpPr>
        <p:spPr>
          <a:xfrm>
            <a:off x="8317080" y="6462720"/>
            <a:ext cx="4046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A683C-3F39-4E39-95BB-0FB4F44BFF67}" type="slidenum">
              <a:rPr b="0" lang="en-US" sz="1200" spc="-1" strike="noStrike">
                <a:solidFill>
                  <a:srgbClr val="89ad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89ba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987640" y="476280"/>
            <a:ext cx="557064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89ad47"/>
                </a:solidFill>
                <a:latin typeface="Arial"/>
              </a:rPr>
              <a:t>Zadania wynikające z Kpgo 2014 – 11</a:t>
            </a:r>
            <a:endParaRPr b="0" lang="en-US" sz="24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89ba"/>
                </a:solidFill>
                <a:uFillTx/>
                <a:latin typeface="Arial"/>
              </a:rPr>
              <a:t>Dla organów wykonawczych gmin, przedsiębiorstw komunalnych i przedsiębiorców prywatnych:</a:t>
            </a: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tworzenie regionalnych systemów gospodarki odpadami komunalnymi.  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580" name="Symbol zastępczy numeru slajdu 4"/>
          <p:cNvSpPr/>
          <p:nvPr/>
        </p:nvSpPr>
        <p:spPr>
          <a:xfrm>
            <a:off x="8317080" y="6462720"/>
            <a:ext cx="4046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30E36-A73C-4128-9158-D91403979D4B}" type="slidenum">
              <a:rPr b="0" lang="en-US" sz="1200" spc="-1" strike="noStrike">
                <a:solidFill>
                  <a:srgbClr val="89ad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89ba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2987640" y="476280"/>
            <a:ext cx="557064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89ad47"/>
                </a:solidFill>
                <a:latin typeface="Arial"/>
              </a:rPr>
              <a:t>Zadania wynikające z Kpgo 2014 – 12</a:t>
            </a:r>
            <a:endParaRPr b="0" lang="en-US" sz="24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W Kpgo 2014 nie wylistowano zadań o charakterze rutynowym, realizowanych przez organy administracji publicznej, wynikających bezpośrednio z mocy prawa (np. wydawania decyzji, monitorowania, kontrolowania), a także zadań zapisanych w innych programach krajowych, np.:</a:t>
            </a:r>
            <a:r>
              <a:rPr b="0" i="1" lang="pl-PL" sz="2200" spc="-1" strike="noStrike">
                <a:solidFill>
                  <a:srgbClr val="0089ba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„Programie Oczyszczania Kraju z Azbestu na lata 2009 - 2032”, „Aktualizacji Krajowego programu oczyszczania ścieków komunalnych”, ”Kierunkach rozwoju biogazowni rolniczych na lata 2010 - 2010”. 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583" name="Symbol zastępczy numeru slajdu 4"/>
          <p:cNvSpPr/>
          <p:nvPr/>
        </p:nvSpPr>
        <p:spPr>
          <a:xfrm>
            <a:off x="8317080" y="6462720"/>
            <a:ext cx="4046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A55EB-44E8-4CEE-9A60-64E89840E8E9}" type="slidenum">
              <a:rPr b="0" lang="en-US" sz="1200" spc="-1" strike="noStrike">
                <a:solidFill>
                  <a:srgbClr val="89ad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89ba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987640" y="476280"/>
            <a:ext cx="557064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89ad47"/>
                </a:solidFill>
                <a:latin typeface="Arial"/>
              </a:rPr>
              <a:t>Nakłady finansowe wskazane </a:t>
            </a:r>
            <a:br>
              <a:rPr sz="2400"/>
            </a:br>
            <a:r>
              <a:rPr b="0" lang="pl-PL" sz="2400" spc="-1" strike="noStrike">
                <a:solidFill>
                  <a:srgbClr val="89ad47"/>
                </a:solidFill>
                <a:latin typeface="Arial"/>
              </a:rPr>
              <a:t>w Kpgo 2014</a:t>
            </a:r>
            <a:endParaRPr b="0" lang="en-US" sz="24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 u="sng">
                <a:solidFill>
                  <a:srgbClr val="0089ba"/>
                </a:solidFill>
                <a:uFillTx/>
                <a:latin typeface="Arial"/>
              </a:rPr>
              <a:t>Gospodarka odpadami: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lata 2011-2013: 4,13 mld zł,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lata 2014-2016: 2,69 mld zł.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 u="sng">
                <a:solidFill>
                  <a:srgbClr val="0089ba"/>
                </a:solidFill>
                <a:uFillTx/>
                <a:latin typeface="Arial"/>
              </a:rPr>
              <a:t>Uwarunkowania: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wskazane kwoty</a:t>
            </a:r>
            <a:r>
              <a:rPr b="0" lang="pl-PL" sz="2200" spc="-1" strike="noStrike">
                <a:solidFill>
                  <a:srgbClr val="58595b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dotyczą wyłącznie zadań wylistowanych </a:t>
            </a:r>
            <a:br>
              <a:rPr sz="2200"/>
            </a:b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w Kpgo 2014,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dla wskazanych kwot uzyskano potwierdzenie, że zostały już uwzględnione lub zaplanowane w budżetach poszczególnych instytucji (ministerstw oraz funduszy ochrony środowiska </a:t>
            </a:r>
            <a:br>
              <a:rPr sz="2200"/>
            </a:b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i gospodarki wodnej),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wskazane kwoty nie obejmują wydatków sektora prywatnego </a:t>
            </a:r>
            <a:br>
              <a:rPr sz="2200"/>
            </a:b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i jednostek samorządu terytorialnego.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586" name="Symbol zastępczy numeru slajdu 4"/>
          <p:cNvSpPr/>
          <p:nvPr/>
        </p:nvSpPr>
        <p:spPr>
          <a:xfrm>
            <a:off x="8317080" y="6462720"/>
            <a:ext cx="4046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87562-1943-4622-9BFE-EDCDAA57E7CF}" type="slidenum">
              <a:rPr b="0" lang="en-US" sz="1200" spc="-1" strike="noStrike">
                <a:solidFill>
                  <a:srgbClr val="89ad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89ba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763280" y="3603240"/>
            <a:ext cx="5637240" cy="7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Arial"/>
              </a:rPr>
              <a:t>DZIĘKUJĘ ZA UWAGĘ</a:t>
            </a:r>
            <a:endParaRPr b="0" lang="en-US" sz="28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780000" y="5595840"/>
            <a:ext cx="4032000" cy="114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ad47"/>
                </a:solidFill>
                <a:latin typeface="Arial"/>
              </a:rPr>
              <a:t>Beata B. Kłopotek</a:t>
            </a:r>
            <a:endParaRPr b="0" lang="en-US" sz="1800" spc="-1" strike="noStrike">
              <a:solidFill>
                <a:srgbClr val="0089ba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ad47"/>
                </a:solidFill>
                <a:latin typeface="Arial"/>
              </a:rPr>
              <a:t>Departament Gospodarki Odpadami</a:t>
            </a:r>
            <a:endParaRPr b="0" lang="en-US" sz="1800" spc="-1" strike="noStrike">
              <a:solidFill>
                <a:srgbClr val="0089ba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ad47"/>
                </a:solidFill>
                <a:latin typeface="Arial"/>
              </a:rPr>
              <a:t>Gdańsk, 26 sierpnia 2011 r.</a:t>
            </a:r>
            <a:endParaRPr b="0" lang="en-US" sz="1800" spc="-1" strike="noStrike">
              <a:solidFill>
                <a:srgbClr val="0089ba"/>
              </a:solidFill>
              <a:latin typeface="Arial"/>
            </a:endParaRPr>
          </a:p>
        </p:txBody>
      </p:sp>
      <p:pic>
        <p:nvPicPr>
          <p:cNvPr id="589" name="Picture 27" descr="krokusy02a"/>
          <p:cNvPicPr/>
          <p:nvPr/>
        </p:nvPicPr>
        <p:blipFill>
          <a:blip r:embed="rId1"/>
          <a:stretch/>
        </p:blipFill>
        <p:spPr>
          <a:xfrm>
            <a:off x="5479920" y="804960"/>
            <a:ext cx="2103480" cy="2388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987640" y="476280"/>
            <a:ext cx="557064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ad47"/>
                </a:solidFill>
                <a:latin typeface="Arial"/>
              </a:rPr>
              <a:t>Cel polityki ekologicznej państwa</a:t>
            </a:r>
            <a:endParaRPr b="0" lang="en-US" sz="28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468360" y="299700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Stworzenie warunków 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niezbędnych do realizacji ochrony środowiska 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466" name="Symbol zastępczy numeru slajdu 4"/>
          <p:cNvSpPr/>
          <p:nvPr/>
        </p:nvSpPr>
        <p:spPr>
          <a:xfrm>
            <a:off x="8317080" y="6462720"/>
            <a:ext cx="4046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BCDF4-07DC-4AA4-B298-0794E9DB5F2A}" type="slidenum">
              <a:rPr b="0" lang="en-US" sz="1200" spc="-1" strike="noStrike">
                <a:solidFill>
                  <a:srgbClr val="89ad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89ba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987640" y="476280"/>
            <a:ext cx="557064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ad47"/>
                </a:solidFill>
                <a:latin typeface="Arial"/>
              </a:rPr>
              <a:t>Zakres polityki ekologicznej państwa</a:t>
            </a:r>
            <a:endParaRPr b="0" lang="en-US" sz="24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Określenie: 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celów ekologicznych, 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priorytetów ekologicznych, 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poziomów celów długoterminowych,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rodzaju i harmonogramu działań proekologicznych, 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89ba"/>
                </a:solidFill>
                <a:latin typeface="Arial"/>
              </a:rPr>
              <a:t>środków niezbędnych do osiągnięcia celów, w tym       mechanizmów prawnoekonomicznych i środków finansowych.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469" name="Symbol zastępczy numeru slajdu 4"/>
          <p:cNvSpPr/>
          <p:nvPr/>
        </p:nvSpPr>
        <p:spPr>
          <a:xfrm>
            <a:off x="8317080" y="6462720"/>
            <a:ext cx="4046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127A8-28D9-4CD8-BA3C-AF468DFEC15E}" type="slidenum">
              <a:rPr b="0" lang="en-US" sz="1200" spc="-1" strike="noStrike">
                <a:solidFill>
                  <a:srgbClr val="89ad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89ba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987640" y="476280"/>
            <a:ext cx="557064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ad47"/>
                </a:solidFill>
                <a:latin typeface="Arial"/>
              </a:rPr>
              <a:t>Procedura przyjmowania</a:t>
            </a:r>
            <a:br>
              <a:rPr sz="2400"/>
            </a:br>
            <a:r>
              <a:rPr b="0" lang="en-US" sz="2400" spc="-1" strike="noStrike">
                <a:solidFill>
                  <a:srgbClr val="89ad47"/>
                </a:solidFill>
                <a:latin typeface="Arial"/>
              </a:rPr>
              <a:t> polityki ekologicznej państwa</a:t>
            </a:r>
            <a:endParaRPr b="0" lang="en-US" sz="24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przyjmowanie na 4 lata, przy czym przewidziane w niej działania obejmują w perspektywie kolejne 4 lata,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uchwalenie przez Sejm na wniosek Rady Ministrów, 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opracowanie projektu przez ministra właściwego do spraw środowiska, w ramach którego następuje:  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 lvl="1" marL="1428840" indent="-51444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9ba"/>
                </a:solidFill>
                <a:latin typeface="Arial"/>
              </a:rPr>
              <a:t>zasięgnięcie opinii marszałków województw, </a:t>
            </a:r>
            <a:endParaRPr b="0" lang="en-US" sz="2000" spc="-1" strike="noStrike">
              <a:solidFill>
                <a:srgbClr val="0089ba"/>
              </a:solidFill>
              <a:latin typeface="Arial"/>
            </a:endParaRPr>
          </a:p>
          <a:p>
            <a:pPr lvl="1" marL="1428840" indent="-51444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9ba"/>
                </a:solidFill>
                <a:latin typeface="Arial"/>
              </a:rPr>
              <a:t>zapewnienie możliwości udziału społeczeństwa. </a:t>
            </a:r>
            <a:endParaRPr b="0" lang="en-US" sz="20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472" name="Symbol zastępczy numeru slajdu 4"/>
          <p:cNvSpPr/>
          <p:nvPr/>
        </p:nvSpPr>
        <p:spPr>
          <a:xfrm>
            <a:off x="8317080" y="6462720"/>
            <a:ext cx="4046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9CC90-5FCE-4081-87F8-572418B725AF}" type="slidenum">
              <a:rPr b="0" lang="en-US" sz="1200" spc="-1" strike="noStrike">
                <a:solidFill>
                  <a:srgbClr val="89ad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89ba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987640" y="476280"/>
            <a:ext cx="557064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ad47"/>
                </a:solidFill>
                <a:latin typeface="Arial"/>
              </a:rPr>
              <a:t>Uchwalone dokumenty -</a:t>
            </a:r>
            <a:br>
              <a:rPr sz="2400"/>
            </a:br>
            <a:r>
              <a:rPr b="0" lang="en-US" sz="2400" spc="-1" strike="noStrike">
                <a:solidFill>
                  <a:srgbClr val="89ad47"/>
                </a:solidFill>
                <a:latin typeface="Arial"/>
              </a:rPr>
              <a:t> polityki ekologiczne państwa</a:t>
            </a:r>
            <a:endParaRPr b="0" lang="en-US" sz="24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17928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uchwała Sejmu Rzeczypospolitej Polskiej z dnia 8 maja 2003 r. w sprawie przyjęcia „Polityki Ekologicznej Państwa na lata 2003-2006 z uwzględnieniem perspektywy na lata 2007-2010” </a:t>
            </a:r>
            <a:br>
              <a:rPr sz="2200"/>
            </a:b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(M.P. Nr 33, poz. 433),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uchwała Sejmu Rzeczypospolitej Polskiej z dnia 22 maja 2009 r. w sprawie przyjęcia dokumentu „Polityka ekologiczna Państwa </a:t>
            </a:r>
            <a:br>
              <a:rPr sz="2200"/>
            </a:b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w latach 2009–2012 z perspektywą do roku 2016”</a:t>
            </a:r>
            <a:r>
              <a:rPr b="1" lang="en-US" sz="2200" spc="-1" strike="noStrike">
                <a:solidFill>
                  <a:srgbClr val="0089ba"/>
                </a:solidFill>
                <a:latin typeface="Arial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(M.P. Nr 34, poz. 501) – „PEP”. 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475" name="Symbol zastępczy numeru slajdu 4"/>
          <p:cNvSpPr/>
          <p:nvPr/>
        </p:nvSpPr>
        <p:spPr>
          <a:xfrm>
            <a:off x="8317080" y="6462720"/>
            <a:ext cx="4046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D0621-B3FB-4F51-9C8B-2968B3A61BBB}" type="slidenum">
              <a:rPr b="0" lang="en-US" sz="1200" spc="-1" strike="noStrike">
                <a:solidFill>
                  <a:srgbClr val="89ad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89ba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987640" y="476280"/>
            <a:ext cx="557064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ad47"/>
                </a:solidFill>
                <a:latin typeface="Arial"/>
              </a:rPr>
              <a:t>PEP – cele średniookresowe do 2016 r. w zakresie gospodarki odpadami - 1</a:t>
            </a:r>
            <a:endParaRPr b="0" lang="en-US" sz="2400" spc="-1" strike="noStrike">
              <a:solidFill>
                <a:srgbClr val="89ad47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utrzymanie tendencji oddzielenia ilości wytwarzanych odpadów od wzrostu gospodarczego kraju (mniej odpadów na jednostkę produktów, mniej opakowań, dłuższe okresy życia produktów itp.), 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znaczne zwiększenie odzysku energii z odpadów komunalnych w sposób bezpieczny dla środowiska,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zamknięcie wszystkich składowisk, które nie spełniają standardów UE i ich rekultywacja,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sporządzenie spisu zamkniętych oraz opuszczonych </a:t>
            </a:r>
            <a:r>
              <a:rPr b="0" i="1" lang="en-US" sz="2200" spc="-1" strike="noStrike">
                <a:solidFill>
                  <a:srgbClr val="0089ba"/>
                </a:solidFill>
                <a:latin typeface="Arial"/>
              </a:rPr>
              <a:t>składowisk (obiektów unieszkodliwiania)</a:t>
            </a:r>
            <a:r>
              <a:rPr b="0" lang="en-US" sz="2200" spc="-1" strike="noStrike">
                <a:solidFill>
                  <a:srgbClr val="0089ba"/>
                </a:solidFill>
                <a:latin typeface="Arial"/>
              </a:rPr>
              <a:t> odpadów wydobywczych, wraz z identyfikacją obiektów wpływających znacząco na środowisko,</a:t>
            </a: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9ba"/>
              </a:solidFill>
              <a:latin typeface="Arial"/>
            </a:endParaRPr>
          </a:p>
        </p:txBody>
      </p:sp>
      <p:sp>
        <p:nvSpPr>
          <p:cNvPr id="478" name="Symbol zastępczy numeru slajdu 4"/>
          <p:cNvSpPr/>
          <p:nvPr/>
        </p:nvSpPr>
        <p:spPr>
          <a:xfrm>
            <a:off x="8317080" y="6462720"/>
            <a:ext cx="4046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83033-B98E-4D3B-A07F-8D160936C897}" type="slidenum">
              <a:rPr b="0" lang="en-US" sz="1200" spc="-1" strike="noStrike">
                <a:solidFill>
                  <a:srgbClr val="89ad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89ba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15:28:50Z</dcterms:created>
  <dc:creator>mico</dc:creator>
  <dc:description/>
  <dc:language>en-US</dc:language>
  <cp:lastModifiedBy>pc1768</cp:lastModifiedBy>
  <dcterms:modified xsi:type="dcterms:W3CDTF">2011-08-19T07:54:22Z</dcterms:modified>
  <cp:revision>273</cp:revision>
  <dc:subject/>
  <dc:title>Slajd 1</dc:title>
</cp:coreProperties>
</file>